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BDA-CC3C-4A35-8D2C-A28F354A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716C-CABA-403F-AD99-786AFA98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CA3D-7C60-48DF-9A57-641C98C3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E94-2E2C-496B-BBC3-4015B1D9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74D2-977A-42BB-9350-0CA06C05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9565-42C0-4CAF-9DFB-C01933EF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5723-2714-4AD5-B4D0-87E4A3AC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384D-A0B6-4CC6-9867-6A88C256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BA42-0539-4083-B05E-CD6BB21E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E962-787C-411C-B066-043CB5E5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4FD0-4CA8-451C-A285-D585FF8B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4AA9-18C1-4153-85B2-217D9673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EFD7-FE0D-4CD2-AC6E-0889D27A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C698-AA11-4054-AE7D-55A17AE0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4FD9-25AD-4C59-B0EA-9E50B560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ECDA-AF44-4D7E-B3C0-E2583DE9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C80C-6E63-4F52-BE35-ED64986F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0EB25-A0DA-4CE7-B13A-F518CF27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C7FA7-9D41-46B8-A3AD-0509798D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DC4B-0C40-4369-A35D-252248B7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70DF6-6CE0-426B-BF29-FD10C84C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E955E-27BD-47DB-9479-0239CFB5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987-93F2-4D4D-AE9A-74796F1E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B2883-137A-41C3-AE0F-D6563DA4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70B8D-321E-496A-9E42-2A069949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90B22-5DC9-4E5A-9BCF-9DD6C906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75CE3-40FA-4F3E-A477-C86E45DD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AFE1C-9489-476B-ACBE-5BF3B10C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148B9-611D-4F98-BBAB-60397B34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2F81-F55D-4E3B-A095-B1B11BEF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D41-6D1F-4482-9E16-19684B41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FE79-85E9-427F-8B86-10A0B7F9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EDC-0AB4-47BD-9A35-95C770D4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8CA5-C63E-4098-941F-BD803901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EED-A97B-463F-B90E-125C30F1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140-36B6-43D5-BF07-B9427A1C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1300-1410-4151-A096-E37682C1B22F}" type="slidenum">
              <a:rPr b="1" lang="en-NZ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7EAE-74E0-4156-BB77-719394D16BE1}" type="slidenum"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8D2D-720B-4D59-A3EC-56739C7B86FD}" type="slidenum"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68440"/>
            <a:ext cx="7772400" cy="42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 Black"/>
              </a:rPr>
              <a:t>‘</a:t>
            </a:r>
            <a:r>
              <a:rPr b="0" lang="en-NZ" sz="6000" spc="-1" strike="noStrike">
                <a:solidFill>
                  <a:srgbClr val="000000"/>
                </a:solidFill>
                <a:latin typeface="Arial Black"/>
              </a:rPr>
              <a:t>CHOICE’ IN THE WORKPLACE ACCOUNT OF ACC</a:t>
            </a:r>
            <a:endParaRPr b="0" lang="en-US" sz="60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d1282e"/>
                </a:solidFill>
                <a:latin typeface="Arial Black"/>
              </a:rPr>
              <a:t>WORKSHOP PRESENTATIO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700" spc="-1" strike="noStrike">
                <a:solidFill>
                  <a:srgbClr val="d1282e"/>
                </a:solidFill>
                <a:latin typeface="Arial Black"/>
              </a:rPr>
              <a:t>‘</a:t>
            </a:r>
            <a:r>
              <a:rPr b="0" lang="en-NZ" sz="1700" spc="-1" strike="noStrike">
                <a:solidFill>
                  <a:srgbClr val="d1282e"/>
                </a:solidFill>
                <a:latin typeface="Arial Black"/>
              </a:rPr>
              <a:t>ACC: A BETTER FUTURE’ CONFERENCE – OCTOBER 2012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39640" y="1159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d1282e"/>
                </a:solidFill>
                <a:latin typeface="Arial Black"/>
              </a:rPr>
              <a:t>IF NOT CHOICE THEN WHAT?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Improving control through better engagement with ACC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ACC Futures logoSmall"/>
          <p:cNvPicPr/>
          <p:nvPr/>
        </p:nvPicPr>
        <p:blipFill>
          <a:blip r:embed="rId2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6840" y="1752120"/>
            <a:ext cx="7620120" cy="4373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ACC Futures logoSmall"/>
          <p:cNvPicPr/>
          <p:nvPr/>
        </p:nvPicPr>
        <p:blipFill>
          <a:blip r:embed="rId2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579132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d1282e"/>
                </a:solidFill>
                <a:latin typeface="Arial Black"/>
              </a:rPr>
              <a:t>WHY IS CHOICE IMPORTANT?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or employ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mployers would cease to be price takers. Market theory suggests that competition between insurers will drive down c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mployers might achieve greater influence over claims manage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For work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579132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d1282e"/>
                </a:solidFill>
                <a:latin typeface="Arial Black"/>
              </a:rPr>
              <a:t>IS ACC AN INSURER?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The purpose of AC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to deliver no-fault personal injury cover for everyone in New Zealand, including overseas visito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Scheme supports the social contract where by individuals forego the right to sue for compensatory damages following an injury, in return for receiving personal injury cover.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CC Statement of Intent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579132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d1282e"/>
                </a:solidFill>
                <a:latin typeface="Arial Black"/>
              </a:rPr>
              <a:t>IS ACC AN INSURER?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752120"/>
            <a:ext cx="54626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s the scheme will be a government-scheme of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social insurance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t must in the final resort receive the backing of the state.” (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oodhouse, p 175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change was done by substituting a single, state welfare service for the earlier systems; and converting the previous insurance premiums to taxes levied on wages and vehicles.”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Woodhouse to 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ACC Forum – The future of ACC,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ugust 201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5919840" y="1773360"/>
            <a:ext cx="26956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4000" y="115560"/>
            <a:ext cx="579132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d1282e"/>
                </a:solidFill>
                <a:latin typeface="Arial Black"/>
              </a:rPr>
              <a:t>IS ACC AN INSURER?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3" name="Content Placeholder 2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7620120" cy="4370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ACC Futures logoSmall"/>
          <p:cNvPicPr/>
          <p:nvPr/>
        </p:nvPicPr>
        <p:blipFill>
          <a:blip r:embed="rId2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1047600" y="1700280"/>
          <a:ext cx="7196400" cy="3973320"/>
        </p:xfrm>
        <a:graphic>
          <a:graphicData uri="http://schemas.openxmlformats.org/drawingml/2006/table">
            <a:tbl>
              <a:tblPr/>
              <a:tblGrid>
                <a:gridCol w="3333960"/>
                <a:gridCol w="3862440"/>
              </a:tblGrid>
              <a:tr h="39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 is just </a:t>
                      </a:r>
                      <a:r>
                        <a:rPr b="1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vate insurance 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 by the st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 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rage limi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ght demarc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 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rial fund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tial lev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rience rating to drive saf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vatis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rrow insurance sche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 is </a:t>
                      </a:r>
                      <a:r>
                        <a:rPr b="1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 insu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 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itlements in stat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o fine pri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rage can exp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exible for new risk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YG prin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at-rate lev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 pool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</a:t>
                      </a:r>
                      <a:r>
                        <a:rPr b="0" lang="en-N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fety separate issu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39640" y="260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d1282e"/>
                </a:solidFill>
                <a:latin typeface="Arial Black"/>
              </a:rPr>
              <a:t>THE EXPERIENCE OF 1999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989000"/>
            <a:ext cx="76201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crease in the number of disputed claims for cover, often between the private insurers themselv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ore applications for review were generat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ulture of non- or under-reporting of workplace acciden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administrative burdens for all treatment provider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nsurers were reluctant to approve claims and were often late in honouring invo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ants knew little about their entitlements, including the identity of the workplace insur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IH failu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9640" y="152280"/>
            <a:ext cx="57913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d1282e"/>
                </a:solidFill>
                <a:latin typeface="Arial Black"/>
              </a:rPr>
              <a:t>THE 2011 PROPOSALS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Employers able to choose work-related personal injury cover from private insurer or AC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CC to remain in the market as a Crown Agent (no tax, no return to governmen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Choice on ‘opt-out’ basis (ACC as default provider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CC’s pricing for Work Account cover to be deregula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Central claims handling facil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ACC to take over cost of claims management in event of insurer insolvency – funded by levy on all insur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Levy on insurers for public health acute serv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0920" y="14040"/>
            <a:ext cx="5791320" cy="112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d1282e"/>
                </a:solidFill>
                <a:latin typeface="Arial Black"/>
              </a:rPr>
              <a:t>PROBLEMS WITH 2011 PROPOSALS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imited margin to lower costs (ACC administratively efficient, falling levies, AEP and experience rating opti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CC with competitive advant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ack of evidence of employer dem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ack of interest from insur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Unknown costs of regulatory reg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Unknown how residual claims will be fun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Unknown how costs of gradual process injuries will be alloc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Unknown how the costs of public health and emergency transport services will be alloc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d1282e"/>
                </a:solidFill>
                <a:latin typeface="Arial Black"/>
              </a:rPr>
              <a:t>OFFICIAL ADVIC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re is a high degree of uncertainty regarding the magnitude of both costs and benefits (and in some cases, even the sign – i.e. whether they will have a net positive or negative impact…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… 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etter pricing signals to employers can be achieved through experience rating and self-insurance arrangements”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ACC Futures logoSmall"/>
          <p:cNvPicPr/>
          <p:nvPr/>
        </p:nvPicPr>
        <p:blipFill>
          <a:blip r:embed="rId1"/>
          <a:stretch/>
        </p:blipFill>
        <p:spPr>
          <a:xfrm>
            <a:off x="0" y="0"/>
            <a:ext cx="2095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03:13:54Z</dcterms:created>
  <dc:creator>Glenn Barclay</dc:creator>
  <dc:description/>
  <dc:language>en-US</dc:language>
  <cp:lastModifiedBy>Glenn Barclay</cp:lastModifiedBy>
  <dcterms:modified xsi:type="dcterms:W3CDTF">2012-10-27T05:12:49Z</dcterms:modified>
  <cp:revision>11</cp:revision>
  <dc:subject/>
  <dc:title>‘Choice’ in the Workplace account of ACC</dc:title>
</cp:coreProperties>
</file>