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09F-7F94-419B-A879-8CFE520E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86B-7C0B-4711-A143-306CC1DD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986-3246-4008-A22E-5811F0A3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20A-745C-41C3-9F76-4B3E272E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82DE-3260-4F6A-B3B3-FC708A43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7C81-D6D7-4CAD-B312-6F82D3F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0877-8B4E-4769-92A9-476A4BB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5C21-765E-4FFB-B01A-A4E2A09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848-30B2-4642-9462-7C028400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95D7-A862-4542-B4F6-9DB5D179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6E3-D81F-4D5E-875F-B8F2CC6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5E9-7181-4C2C-B5AB-0F39AAE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55E-5E17-46B0-97A2-EC0DC35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227-7865-4549-AF0F-74CE0C2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CCC-B462-473C-9D1B-D738EF7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57BC-CA27-41EB-BE37-BE5F8F31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6C1-4549-41FD-A1AB-51E93989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DBB8-774B-4B1C-8247-2F12C7CA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7582-6928-4331-A600-28D5ECE8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69B3-904E-43C3-8C02-1381CB7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272E-7DA2-48F5-B0C6-85C7259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A117-2051-4801-BCE7-1695CFB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BE7-B57D-4E03-A87C-FE09962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3BAA-2A61-4B56-A5F7-2E05DC8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F0C6-4162-4987-9D51-E997C1E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F3E9-BC84-443F-9E32-443E51B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9454-DFF1-4669-A317-E7CFB09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2BC1-CA37-44CF-A216-8E731951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E506-0F93-4174-B303-DE205896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1578-CC23-41E2-AB75-4FD3530D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C7E-1FFD-4E9B-86C8-68D5D2C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9C5-AC96-44CA-8B87-4D2B6FD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7DC-CCA9-4BED-BC28-59448053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0B5-B203-483B-9B93-683E193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07C-D0F0-41D2-8124-AFE0D01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3AC-D5A1-4F1B-BDF6-AEF1F78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53EF-F325-4180-97BC-928765661CC7}" type="slidenum">
              <a:rPr b="1" lang="en-NZ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184D-419F-44A1-A903-3ACC203E8561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813-D9C4-4BA4-B1B2-3E91A7271F1F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68440"/>
            <a:ext cx="7772400" cy="42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CHOICE’ IN THE WORKPLACE ACCOUNT OF ACC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WORKSHOP PRESENT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‘</a:t>
            </a: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ACC: A BETTER FUTURE’ CONFERENCE – OCTOBER 201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9640" y="1159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F NOT CHOICE THEN WHAT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mproving control through better engagement with ACC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WHY IS CHOICE IMPORTANT?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emplo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would cease to be price takers. Market theory suggests that competition between insurers will drive dow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might achieve greater influence over claims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wor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purpose of A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o deliver no-fault personal injury cover for everyone in New Zealand, including overseas visito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cheme supports the social contract where by individuals forego the right to sue for compensatory damages following an injury, in return for receiving personal injury cover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CC Statement of Intent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52120"/>
            <a:ext cx="54626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the scheme will be a government-scheme of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social insuranc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must in the final resort receive the backing of the state.” 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dhouse, p 175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ange was done by substituting a single, state welfare service for the earlier systems; and converting the previous insurance premiums to taxes levied on wages and vehicles.”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Woodhouse to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CC Forum – The future of ACC,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ugust 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919840" y="1773360"/>
            <a:ext cx="2695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4000" y="115560"/>
            <a:ext cx="57913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3" name="Content Placeholder 2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7620120" cy="437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047600" y="1700280"/>
          <a:ext cx="7196400" cy="3973320"/>
        </p:xfrm>
        <a:graphic>
          <a:graphicData uri="http://schemas.openxmlformats.org/drawingml/2006/table">
            <a:tbl>
              <a:tblPr/>
              <a:tblGrid>
                <a:gridCol w="3333960"/>
                <a:gridCol w="3862440"/>
              </a:tblGrid>
              <a:tr h="39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just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 insurance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 by the st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limi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ght demar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rial fund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ial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rience rating to drive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is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ow insurance sch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tlements in stat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 fine pr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can exp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 for new ris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G prin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t-rate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pool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 separate iss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EXPERIENCE OF 1999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9000"/>
            <a:ext cx="76201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crease in the number of disputed claims for cover, often between the private insurers themselv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 applications for review were generat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lture of non- or under-reporting of workplace accid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administrative burdens for all treatment provider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surers were reluctant to approve claims and were often late in honouring inv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ants knew little about their entitlements, including the identity of the workplace insu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H fail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9640" y="152280"/>
            <a:ext cx="57913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2011 PROPOSAL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Employers able to choose work-related personal injury cover from private insurer or AC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remain in the market as a Crown Agent (no tax, no return to govern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oice on ‘opt-out’ basis (ACC as default provid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’s pricing for Work Account cover to be deregul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entral claims handling fac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take over cost of claims management in event of insurer insolvency – funded by levy on all insur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Levy on insurers for public health acute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0920" y="14040"/>
            <a:ext cx="5791320" cy="112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PROBLEMS WITH 2011 PROPOSAL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mited margin to lower costs (ACC administratively efficient, falling levies, AEP and experience rating op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C with competitive 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evidence of employer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interest from ins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costs of regulatory reg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residual claims will be fu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costs of gradual process injuri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the costs of public health and emergency transport servic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OFFICIAL ADVIC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is a high degree of uncertainty regarding the magnitude of both costs and benefits (and in some cases, even the sign – i.e. whether they will have a net positive or negative impact…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… 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ter pricing signals to employers can be achieved through experience rating and self-insurance arrangements”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3:13:54Z</dcterms:created>
  <dc:creator>Glenn Barclay</dc:creator>
  <dc:description/>
  <dc:language>en-US</dc:language>
  <cp:lastModifiedBy>Glenn Barclay</cp:lastModifiedBy>
  <dcterms:modified xsi:type="dcterms:W3CDTF">2012-10-27T05:12:49Z</dcterms:modified>
  <cp:revision>11</cp:revision>
  <dc:subject/>
  <dc:title>‘Choice’ in the Workplace account of ACC</dc:title>
</cp:coreProperties>
</file>