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6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67"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move the slide</a:t>
            </a:r>
            <a:endParaRPr b="0" lang="en-US" sz="4400" spc="-1" strike="noStrike">
              <a:solidFill>
                <a:srgbClr val="676a55"/>
              </a:solidFill>
              <a:latin typeface="Tw Cen MT"/>
            </a:endParaRPr>
          </a:p>
        </p:txBody>
      </p:sp>
      <p:sp>
        <p:nvSpPr>
          <p:cNvPr id="36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0"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71"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1947-6B17-491C-BFAE-74D9A62FDA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15AA-AD26-4A87-B820-6D9E582BF11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4C52D-BB30-474B-803F-76A3C5F42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0D703-70C4-487C-AEC3-27CE698B5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DAAD0-FE92-40A8-9D90-6343CAF6E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3DBBF-91BC-420A-AEC2-3EF182B07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D8E0D-0E5A-48A1-9AD1-6CBA360D4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61054-45FD-4353-A2AC-8BC654EBB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1DD34-BE79-4B4C-B776-FB4466CE5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C7AD4-A6AE-4D81-AA18-2394452C2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CC34A-F558-447C-A80D-93ED7ACD7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121A1-2B7E-490E-9A47-56D16AB76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275B1-EF0E-4F8C-B155-E62028482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AFBE-3A27-4C8D-8AB3-4FBF9A6C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A2C10-2562-4C39-88F9-04FEA6705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B0AD9-C0F1-422B-B7FA-F7571A0F8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430B4-2156-4E79-8198-84ACD314A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50952-F057-4E12-86B4-28414885A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0F457-A769-466D-A4BD-0C02F0B59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B35A4D8-36C5-49F3-9D70-36D162A652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5010CE-05CF-4A01-8348-350DEF846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9F7C3C-7FA1-4001-BFBF-587A07D78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44815F-789C-4A6E-AA42-EAF059F1B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DBF3B9-C6DA-457D-A434-8489AB964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ABDAC-B3CF-4D59-AA3F-734B971C7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4145587-03AA-4289-B782-24D3351AA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1E3190-BABA-4982-A26F-F82097C1F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7DAEEF-8FBE-4145-9010-D7FC8CD91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DFCAE4-3FE6-4CA9-B630-729EBEE17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85A7B0-3461-4781-BC9E-E48F009EFC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54F697C-8796-41B8-9783-923C46A520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8662636-DE6D-4BDC-BB3E-8C9C463653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5BF01B9-A3C5-4C08-9105-7990A9C1D1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97926F-6118-4513-B05B-DEB805FE5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D2E088-38BA-4431-A3F1-F97FF1411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B524B-78F8-4250-B677-ED3720B7E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51BC31F-E24D-4954-904D-6DE853E1C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6BCF10-0777-4794-ACAA-753B31FE8E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05893F-4F71-487D-98C7-AD8D10CF9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F9D239-DB59-469B-B5B9-95C9A444E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DA9048-AA83-4882-B8A0-B636012AA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C8833A-A177-4260-8373-B2D948591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248167-3BF1-40A1-A9D0-075BA19142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B451EA6-3DF4-40FC-B9EB-D87227AF92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589A4E1-B64A-404F-B9D4-841B9F545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02114B1-CA9B-4871-A08C-5A3AE0F052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297D7-8A1D-4295-8A74-129B2BB5E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022A25A-4464-43DB-A0F5-1D889D41D6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20B532-559F-439E-84DB-547C51F92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08519E-B0D1-43F9-B3FB-77BB11A801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A9EAE91-971B-4201-B69C-E7A428378C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364A42-3863-4351-97EB-DCCFFDB801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47B3A7-B102-45CA-AAF4-9127A6AFA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5BEB58-F2E7-490D-8794-8E83483FB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598813-67BB-4551-8A51-5ED9A55FD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68AB25-8A77-446D-B225-5248D6A1D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F063D9C-286C-43C6-BDFE-908C07CED9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CF8DC-2981-4265-B4D6-ABC93C14A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076682A-D3DB-4917-9421-EDD4893F8E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25524A-FCB8-4009-933D-6234AF498B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1AC3FF-CE83-4ECD-BFEE-901567A5A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C08C66-DF7B-46F2-B76D-138585167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C80C1C-1376-44DB-8B78-85B612245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DB1612-0824-4DB5-A582-53FC60A7A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DD8892-2990-4245-9C7B-920AE4E656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A1323-178F-4DCB-8A19-438EF41E8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5CCC2-8DF1-42D8-A899-B0C4B7DFE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0BAA23-161A-407D-96FB-632ED5B62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54BA-1D83-40A0-8141-DDF8ADCEB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0EC6ED-BCB4-43C5-9ABD-7D5824D90B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CDA12C-32D5-452F-A064-2D25B6625A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FE7E38-9988-41E0-A3B8-D13F90DD4C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DEC51EF-1898-431C-BE98-8D9040C3BB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E93C42-E6DE-4AF1-9C0B-A89523196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DFCEE5C-FF64-4637-BB50-EC1B988B92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EF49958-D7D4-4194-BD59-40CEDACB06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1B6F80-EE35-4F5D-85E3-4E254A41D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591495B-898F-48CC-9F1D-EC9172C22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4C86EFE-08ED-4667-A252-7C4E0C87C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D6DE6-C3A9-401B-8761-B0C6D3614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F82A51E-BED9-4E47-96F6-0DC91D97FD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83B136C-1A03-428C-B3B5-744E35C74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767C0F-A828-44B2-BE63-87EA875294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54FBD48-EDDE-44C5-850C-58F7D73327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F15D872-E875-4B77-B255-B856126E94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6A4C05-CD09-463B-AE91-D511BC5ED6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879535-043E-4219-AFA8-8B5B837A00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191834-5C47-415E-B848-021C1F283B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11A3F2-1B20-4869-B9D7-18C3C4892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EA5530-DB76-4B6B-AAAD-E63B66843C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07AB5-6BDB-4111-906A-F6F4D124C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70885F-B3DE-412E-8F1D-61D48B0BC9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3F992-0406-4C37-8444-88832C3FE5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346124-DEB0-40C3-9B68-2E90947504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00310F-70FB-40A6-B8BB-0A485A2250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C0C05D-8CCD-4697-835C-FBD76B76F0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422A3E-9F39-487B-BA49-08947E66AD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BCC50C-97CB-4EC8-A305-A478FEC18ED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3D99-CBDB-45FB-8EEE-18DA6C7C18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BAF4-7907-45C3-982A-2073EA40C15F}"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5"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6"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9"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4453-BED2-4896-8473-73D96C28E9E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01"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C16B-056E-4EF3-9732-54406415D2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0552-1D1F-446F-A3AE-E8E3CE4E23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232"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33"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A2B8-E05D-4D5C-9F33-B37E0B0EADA9}"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4"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5"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6"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9"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280"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407E-4335-4996-B86D-E56F12B2A22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81"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9"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0"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2"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3"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26"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327"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8"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6027-E76E-4A44-BDB1-D3E43FE7D3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33440" y="2421000"/>
            <a:ext cx="6477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676a55"/>
                </a:solidFill>
                <a:latin typeface="Tw Cen MT"/>
              </a:rPr>
              <a:t>OCCUPATIONAL DISEASE IN NEW ZEALAND: </a:t>
            </a:r>
            <a:br>
              <a:rPr sz="4000"/>
            </a:br>
            <a:br>
              <a:rPr sz="4000"/>
            </a:br>
            <a:r>
              <a:rPr b="0" lang="en-US" sz="3200" spc="-1" strike="noStrike">
                <a:solidFill>
                  <a:srgbClr val="676a55"/>
                </a:solidFill>
                <a:latin typeface="Tw Cen MT"/>
              </a:rPr>
              <a:t>REDUCING THE DISPARITY BETWEEN ESTIMATED INCIDENCE AND ACC CLAIMS</a:t>
            </a:r>
            <a:endParaRPr b="0" lang="en-US" sz="3200" spc="-1" strike="noStrike">
              <a:solidFill>
                <a:srgbClr val="676a55"/>
              </a:solidFill>
              <a:latin typeface="Tw Cen MT"/>
            </a:endParaRPr>
          </a:p>
        </p:txBody>
      </p:sp>
      <p:sp>
        <p:nvSpPr>
          <p:cNvPr id="373"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w Cen MT"/>
              </a:rPr>
              <a:t>Hazel Armstrong and Ben Thompson</a:t>
            </a:r>
            <a:endParaRPr b="0" lang="en-US" sz="2000" spc="-1" strike="noStrike">
              <a:solidFill>
                <a:srgbClr val="000000"/>
              </a:solidFill>
              <a:latin typeface="Tw Cen MT"/>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w Cen MT"/>
              </a:rPr>
              <a:t>Hazel Armstrong Law</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9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CC data does not reflect the incidence of O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test for cover can be difficult, but even the number of claims lodged is disproportionately low.</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tatistics show that a lot of people suffering from OD are not receiving entitlements.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st of OD therefore falling on the workers and their famili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What are the problems?</a:t>
            </a:r>
            <a:endParaRPr b="0" lang="en-US" sz="4400" spc="-1" strike="noStrike">
              <a:solidFill>
                <a:srgbClr val="676a55"/>
              </a:solidFill>
              <a:latin typeface="Tw Cen MT"/>
            </a:endParaRPr>
          </a:p>
        </p:txBody>
      </p:sp>
      <p:sp>
        <p:nvSpPr>
          <p:cNvPr id="39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t enough claims getting lodg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ack of information regarding exposures in individual cas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tting claims lodged</a:t>
            </a:r>
            <a:endParaRPr b="0" lang="en-US" sz="4400" spc="-1" strike="noStrike">
              <a:solidFill>
                <a:srgbClr val="676a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the context of OD, most likely that the worker will first visit his or her GP in relation to symptoms.  Then will visit DHB, if symptoms deteriorat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GPs and DHB staff need to recognise the possibility of an occupational caus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ow number of approaches to ACC suggests that GPs and DHB staff are failing to recognise cases of O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tting claims lodged</a:t>
            </a:r>
            <a:endParaRPr b="0" lang="en-US" sz="4400" spc="-1" strike="noStrike">
              <a:solidFill>
                <a:srgbClr val="676a55"/>
              </a:solidFill>
              <a:latin typeface="Tw Cen MT"/>
            </a:endParaRPr>
          </a:p>
        </p:txBody>
      </p:sp>
      <p:sp>
        <p:nvSpPr>
          <p:cNvPr id="39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urther education of GPs and DHB staff may be required.</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July 2007 ACC issued fact sheets on occupational causes of:</a:t>
            </a:r>
            <a:endParaRPr b="0" lang="en-US" sz="2900" spc="-1" strike="noStrike">
              <a:solidFill>
                <a:srgbClr val="000000"/>
              </a:solidFill>
              <a:latin typeface="Tw Cen MT"/>
            </a:endParaRPr>
          </a:p>
          <a:p>
            <a:pPr lvl="1" marL="607680" indent="-2592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Certain types of cancers;</a:t>
            </a:r>
            <a:endParaRPr b="0" lang="en-US" sz="2600" spc="-1" strike="noStrike">
              <a:solidFill>
                <a:srgbClr val="000000"/>
              </a:solidFill>
              <a:latin typeface="Tw Cen MT"/>
            </a:endParaRPr>
          </a:p>
          <a:p>
            <a:pPr lvl="1" marL="607680" indent="-2592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Dermatitis; </a:t>
            </a:r>
            <a:endParaRPr b="0" lang="en-US" sz="2600" spc="-1" strike="noStrike">
              <a:solidFill>
                <a:srgbClr val="000000"/>
              </a:solidFill>
              <a:latin typeface="Tw Cen MT"/>
            </a:endParaRPr>
          </a:p>
          <a:p>
            <a:pPr lvl="1" marL="607680" indent="-2592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sthma and Chronic Obstructive Pulmonary Disease.</a:t>
            </a:r>
            <a:endParaRPr b="0" lang="en-US" sz="26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e understand that some OD training also takes place at the trainee level.</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tting claims lodged</a:t>
            </a:r>
            <a:endParaRPr b="0" lang="en-US" sz="4400" spc="-1" strike="noStrike">
              <a:solidFill>
                <a:srgbClr val="676a55"/>
              </a:solidFill>
              <a:latin typeface="Tw Cen MT"/>
            </a:endParaRPr>
          </a:p>
        </p:txBody>
      </p:sp>
      <p:sp>
        <p:nvSpPr>
          <p:cNvPr id="39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However, the numbers of claims lodged, and numbers of claims accepted, have steadily dropped since 2004:</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0" name="Picture 6" descr=""/>
          <p:cNvPicPr/>
          <p:nvPr/>
        </p:nvPicPr>
        <p:blipFill>
          <a:blip r:embed="rId1"/>
          <a:stretch/>
        </p:blipFill>
        <p:spPr>
          <a:xfrm>
            <a:off x="2303640" y="2492280"/>
            <a:ext cx="4536720" cy="37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tting claims lodged</a:t>
            </a:r>
            <a:endParaRPr b="0" lang="en-US" sz="4400" spc="-1" strike="noStrike">
              <a:solidFill>
                <a:srgbClr val="676a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thing to suggest that the incidence of OD has dropp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e suggest that further work needs to be done to ensure that GPs recognise potential cases of O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ithout this recognition, claim numbers will remain low and the problem will go unaddress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Determining workplace exposure</a:t>
            </a:r>
            <a:endParaRPr b="0" lang="en-US" sz="4400" spc="-1" strike="noStrike">
              <a:solidFill>
                <a:srgbClr val="676a55"/>
              </a:solidFill>
              <a:latin typeface="Tw Cen MT"/>
            </a:endParaRPr>
          </a:p>
        </p:txBody>
      </p:sp>
      <p:sp>
        <p:nvSpPr>
          <p:cNvPr id="40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istinct but related to the issue of recognising potential cases of O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ack of objective, contemporaneous evidence regarding the nature and extent of exposure to causative agents in NZ workplac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mployers failing in their duty to carry out monitoring of exposur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Determining workplace expsoure</a:t>
            </a:r>
            <a:endParaRPr b="0" lang="en-US" sz="4400" spc="-1" strike="noStrike">
              <a:solidFill>
                <a:srgbClr val="676a55"/>
              </a:solidFill>
              <a:latin typeface="Tw Cen MT"/>
            </a:endParaRPr>
          </a:p>
        </p:txBody>
      </p:sp>
      <p:sp>
        <p:nvSpPr>
          <p:cNvPr id="40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is failure undermines the ability to accurately diagnose cases of OD, which in turn undermines the chances of the worker receiving ACC cover.</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many cases, the onus is on the employee to positively prove causation – how can this be done, without solid evidence of exposur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Duty to monitor: Health and Safety in Employment Act 1992</a:t>
            </a:r>
            <a:endParaRPr b="0" lang="en-US" sz="4000" spc="-1" strike="noStrike">
              <a:solidFill>
                <a:srgbClr val="676a55"/>
              </a:solidFill>
              <a:latin typeface="Tw Cen MT"/>
            </a:endParaRPr>
          </a:p>
        </p:txBody>
      </p:sp>
      <p:sp>
        <p:nvSpPr>
          <p:cNvPr id="40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General duty to take all practicable steps to ensure safety of employees: s 6.  At least arguable that this would include surveillance and/or monitoring.</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a ‘significant hazard’ cannot be eliminated or isolated, all practicable steps must be taken to minimise the chance of that hazard causing harm (ss 7 – 10).</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Duty to monitor: Health and Safety in Employment Act 1992</a:t>
            </a:r>
            <a:endParaRPr b="0" lang="en-US" sz="4000" spc="-1" strike="noStrike">
              <a:solidFill>
                <a:srgbClr val="676a55"/>
              </a:solidFill>
              <a:latin typeface="Tw Cen MT"/>
            </a:endParaRPr>
          </a:p>
        </p:txBody>
      </p:sp>
      <p:sp>
        <p:nvSpPr>
          <p:cNvPr id="41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the context of minimising the risk posed by significant hazards, section 10 requires employers to:</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Monitor workers' exposure to the hazard;</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With workers’ consent, monitor their health in relation to the particular hazard.</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verview</a:t>
            </a:r>
            <a:endParaRPr b="0" lang="en-US" sz="4400" spc="-1" strike="noStrike">
              <a:solidFill>
                <a:srgbClr val="676a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Research suggests a high incidence of occupational disease (‘OD’) in New Zealan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ur no-fault compensation scheme covers OD; however there is a significant disparity between the incidence of OD and the number of claims lodged with ACC.</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Duty to monitor: Health and Safety in Employment Act 1992</a:t>
            </a:r>
            <a:endParaRPr b="0" lang="en-US" sz="4000" spc="-1" strike="noStrike">
              <a:solidFill>
                <a:srgbClr val="676a55"/>
              </a:solidFill>
              <a:latin typeface="Tw Cen MT"/>
            </a:endParaRPr>
          </a:p>
        </p:txBody>
      </p:sp>
      <p:sp>
        <p:nvSpPr>
          <p:cNvPr id="412"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our experience, compliance with this duty is minimal.</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eads to serious difficulties in gauging an individual worker’s historical exposure.</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rguably, lax attitude to monitoring is a result of the absence of the threat of civil personal injury proceedings, along with a failure to enforce the duty to monitor by way of prosecutions brought under the HSE Ac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stimating historical exposures</a:t>
            </a:r>
            <a:endParaRPr b="0" lang="en-US" sz="4400" spc="-1" strike="noStrike">
              <a:solidFill>
                <a:srgbClr val="676a55"/>
              </a:solidFill>
              <a:latin typeface="Tw Cen MT"/>
            </a:endParaRPr>
          </a:p>
        </p:txBody>
      </p:sp>
      <p:sp>
        <p:nvSpPr>
          <p:cNvPr id="41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nsuring monitoring of worker exposure and health is essential, but will not assist in cases of historical exposur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such cases, steps must be taken to ensure the worker’s exposure is accurately estimat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imply relying on the worker’s own recall is insufficie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stimating historical exposures</a:t>
            </a:r>
            <a:endParaRPr b="0" lang="en-US" sz="4400" spc="-1" strike="noStrike">
              <a:solidFill>
                <a:srgbClr val="676a55"/>
              </a:solidFill>
              <a:latin typeface="Tw Cen MT"/>
            </a:endParaRPr>
          </a:p>
        </p:txBody>
      </p:sp>
      <p:sp>
        <p:nvSpPr>
          <p:cNvPr id="41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areful history taking.  Assistance should be given to ACC claimants when filling out claim form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Reference to medical research on exposure levels by industry (both in New Zealand and abroa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nstruction of a NZ ‘Job Exposure Matrix’.</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Advisory Committee</a:t>
            </a:r>
            <a:endParaRPr b="0" lang="en-US" sz="4400" spc="-1" strike="noStrike">
              <a:solidFill>
                <a:srgbClr val="676a55"/>
              </a:solidFill>
              <a:latin typeface="Tw Cen MT"/>
            </a:endParaRPr>
          </a:p>
        </p:txBody>
      </p:sp>
      <p:sp>
        <p:nvSpPr>
          <p:cNvPr id="418"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o assist in implementing these steps, a Gradual Process Advisory Committee should be established to carry out research and provide advice to ACC.</a:t>
            </a:r>
            <a:endParaRPr b="0" lang="en-US" sz="29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uch a Committee existed previously, but was disbanded by the current National Government.</a:t>
            </a:r>
            <a:endParaRPr b="0" lang="en-US" sz="29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mmittee should comprise of occupational physicians, academics specialising in incidence of OD, lawyers, union and employer representativ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Specific focus: Schedule 2</a:t>
            </a:r>
            <a:endParaRPr b="0" lang="en-US" sz="4400" spc="-1" strike="noStrike">
              <a:solidFill>
                <a:srgbClr val="676a55"/>
              </a:solidFill>
              <a:latin typeface="Tw Cen MT"/>
            </a:endParaRPr>
          </a:p>
        </p:txBody>
      </p:sp>
      <p:sp>
        <p:nvSpPr>
          <p:cNvPr id="42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e also suggest that the focus (at least initially) be on certain conditions within Schedule 2.</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hard work on causation has been done – inclusion into the Schedule is dependant upon an occupational link.</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hifts the legal burden off the worker – to decline cover, ACC must prove that there is a non-workplace cau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Why ACC’s responsibility?</a:t>
            </a:r>
            <a:endParaRPr b="0" lang="en-US" sz="4400" spc="-1" strike="noStrike">
              <a:solidFill>
                <a:srgbClr val="676a55"/>
              </a:solidFill>
              <a:latin typeface="Tw Cen MT"/>
            </a:endParaRPr>
          </a:p>
        </p:txBody>
      </p:sp>
      <p:sp>
        <p:nvSpPr>
          <p:cNvPr id="42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Under the Accident Compensation Act, a ‘primary function’ is the ‘promotion of measures to reduce the incidence and severity of personal injur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need for preventative measures is established by, amongst other things, reference to claims data.</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rtificially low claim numbers will be a barrier to injury prevention measur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Implications for ACC’s liability</a:t>
            </a:r>
            <a:endParaRPr b="0" lang="en-US" sz="4400" spc="-1" strike="noStrike">
              <a:solidFill>
                <a:srgbClr val="676a55"/>
              </a:solidFill>
              <a:latin typeface="Tw Cen MT"/>
            </a:endParaRPr>
          </a:p>
        </p:txBody>
      </p:sp>
      <p:sp>
        <p:nvSpPr>
          <p:cNvPr id="42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bviously, an increase in OD will see an increase in ACC’s fiscal liabilit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is is to be encouraged; the status quo does not represent the true liabilit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e suggest that the cost of OD claims would most fairly and effectively be funded by a flat-rate levy shared amongst all employ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nclusion</a:t>
            </a:r>
            <a:endParaRPr b="0" lang="en-US" sz="4400" spc="-1" strike="noStrike">
              <a:solidFill>
                <a:srgbClr val="676a55"/>
              </a:solidFill>
              <a:latin typeface="Tw Cen MT"/>
            </a:endParaRPr>
          </a:p>
        </p:txBody>
      </p:sp>
      <p:sp>
        <p:nvSpPr>
          <p:cNvPr id="42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arge disparity between the incidence of OD and the number of claims being made to ACC.</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is necessarily results in the cost of OD being borne by workers and their famili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Given it’s primary function of injury prevention, there is a duty on ACC to play a lead role in educating GPs and gathering accurate workplace exposure da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ACC Futures Manifesto</a:t>
            </a:r>
            <a:endParaRPr b="0" lang="en-US" sz="4400" spc="-1" strike="noStrike">
              <a:solidFill>
                <a:srgbClr val="676a55"/>
              </a:solidFill>
              <a:latin typeface="Tw Cen MT"/>
            </a:endParaRPr>
          </a:p>
        </p:txBody>
      </p:sp>
      <p:sp>
        <p:nvSpPr>
          <p:cNvPr id="428"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tatement regarding OD:</a:t>
            </a:r>
            <a:endParaRPr b="0" lang="en-US" sz="2900" spc="-1" strike="noStrike">
              <a:solidFill>
                <a:srgbClr val="000000"/>
              </a:solidFill>
              <a:latin typeface="Tw Cen MT"/>
            </a:endParaRPr>
          </a:p>
          <a:p>
            <a:pPr lvl="1" marL="620280" indent="-2646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Tw Cen MT"/>
              </a:rPr>
              <a:t>Occupational disease usually involves long-latency and multiple employers, and in some cases (such as hearing loss) it can be difficult to establish the extent to which the problem was work related, degenerative or arose as a consequence of activity outside of work.  We support a review of occupational disease management (including hearing loss) with a view to removing the barriers to treatment and improving the co-ordination of the funding with the health system, DHB’s and ACC.</a:t>
            </a:r>
            <a:endParaRPr b="0" lang="en-US" sz="2600" spc="-1" strike="noStrike">
              <a:solidFill>
                <a:srgbClr val="000000"/>
              </a:solidFill>
              <a:latin typeface="Tw Cen MT"/>
            </a:endParaRPr>
          </a:p>
          <a:p>
            <a:pPr lvl="1" marL="620280" indent="-2646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Occupational Disease v </a:t>
            </a:r>
            <a:br>
              <a:rPr sz="4000"/>
            </a:br>
            <a:r>
              <a:rPr b="0" lang="en-NZ" sz="4000" spc="-1" strike="noStrike">
                <a:solidFill>
                  <a:srgbClr val="676a55"/>
                </a:solidFill>
                <a:latin typeface="Tw Cen MT"/>
              </a:rPr>
              <a:t>Occupational Injury</a:t>
            </a:r>
            <a:endParaRPr b="0" lang="en-US" sz="4000" spc="-1" strike="noStrike">
              <a:solidFill>
                <a:srgbClr val="676a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D defined by the ILO as a ‘disease contracted as a result of exposure over a period of time to risk factors arising from work activit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istinct to workplace injuries – discrete events with immediate effect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Occupational Disease in New Zealand</a:t>
            </a:r>
            <a:endParaRPr b="0" lang="en-US" sz="4000" spc="-1" strike="noStrike">
              <a:solidFill>
                <a:srgbClr val="676a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igh incidence of OD in New Zealan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HSAC estimates 17,000 – 20,000 new OD cases arise annuall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2,500 – 5,500 classified as ‘severe’ – i.e. requiring payment of weekly compensa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IOSH’s figures have recently been accepted by MOBIE – see publication ‘The State of Workplace Health and Safety in New Zealand’, September 2012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Occupational Disease in New Zealand</a:t>
            </a:r>
            <a:endParaRPr b="0" lang="en-US" sz="4000" spc="-1" strike="noStrike">
              <a:solidFill>
                <a:srgbClr val="676a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HSAC estimates 700 – 1,000 deaths from OD annually.  30-40% are cancer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More than 80% of work-related deaths (most due to disease) are not documented, reported or investigat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2004-2005, there were an estimated 18,500 OD incidents, attracting a financial cost of NZ$1.1 bill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D is covered by the ACC scheme – ‘work-related gradual process, disease or infec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2 routes to cover: </a:t>
            </a:r>
            <a:endParaRPr b="0" lang="en-US" sz="29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Fulfilment of the 3-part test under section 30 of the Accident Compensation Act; or</a:t>
            </a:r>
            <a:endParaRPr b="0" lang="en-US" sz="26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Proving that the OD is one listed in Schedule 2 of the AC Act.</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8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3-part test requires a claimant to prove:</a:t>
            </a:r>
            <a:endParaRPr b="0" lang="en-US" sz="29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 property or characteristic in the workplace caused or contributed to the personal injury;</a:t>
            </a:r>
            <a:endParaRPr b="0" lang="en-US" sz="26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at property or characteristic is not found to any material extent in the claimant’s non-employment activities or environment; and</a:t>
            </a:r>
            <a:endParaRPr b="0" lang="en-US" sz="26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risk of injury is significantly greater for persons performing that task in that environment.</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8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ection 60 of the AC Act: cover presumed for conditions resulting from exposure to certain substances known to cause O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se conditions are listed in Schedule 2 (41 condition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CC can only deny cover if it can establish a non-work caus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tatistics show ACC coverage of OD is low.</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rom the 17,000 – 20,000 average annual new OD incidents, only 1,035 claims are lodged with ACC and only 554 are accepted (on averag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rom the estimated 700 – 1,000 deaths arising from OD each year, only 10 ACC claims involve the death of the claimant (on averag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01:56:47Z</dcterms:created>
  <dc:creator>ben</dc:creator>
  <dc:description/>
  <dc:language>en-US</dc:language>
  <cp:lastModifiedBy>Glenn Barclay</cp:lastModifiedBy>
  <dcterms:modified xsi:type="dcterms:W3CDTF">2012-11-01T04:11:03Z</dcterms:modified>
  <cp:revision>82</cp:revision>
  <dc:subject/>
  <dc:title>Occupational Disease in New Zealand: reducing the disparity between estimated incidence and ACC claims</dc:title>
</cp:coreProperties>
</file>