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6"/>
          </p:nvPr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3144E75-543D-4184-B236-0B2EA3F45384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search has been informed and inspired by every researcher in this r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A34-CBB9-4BB5-853C-B7B2228B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4D6-1CB2-4C45-A147-5BAC5489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D4F-5661-41F6-8DCA-A50C7FA9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33C-3FFE-406D-ADD1-4455E42A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2C4-8748-460A-B538-BEEDF4F2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ACD2-6430-40C6-8EF7-41ED5E79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336-4A72-430A-BB52-02A20E35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D177-015A-42E6-B196-74A19D1F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BED-119C-4D58-BE17-825CBC3E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E466-EA80-4148-8502-B283605D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1900-D55F-412A-91F5-7DC2733D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7BC-17E5-4CD7-A296-19967709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BCDD-2108-482F-998B-4EE60CD7EA47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384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alibri"/>
              </a:rPr>
              <a:t>Injury Prevention: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alibri"/>
              </a:rPr>
              <a:t>Where to from he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755280" y="3645000"/>
            <a:ext cx="7488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alibri"/>
              </a:rPr>
              <a:t>Felicity La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ohsnet.org.nz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826920" y="5157720"/>
            <a:ext cx="75614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hart 3" descr=""/>
          <p:cNvPicPr/>
          <p:nvPr/>
        </p:nvPicPr>
        <p:blipFill>
          <a:blip r:embed="rId1"/>
          <a:stretch/>
        </p:blipFill>
        <p:spPr>
          <a:xfrm>
            <a:off x="0" y="285840"/>
            <a:ext cx="89060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Chart 5" descr=""/>
          <p:cNvPicPr/>
          <p:nvPr/>
        </p:nvPicPr>
        <p:blipFill>
          <a:blip r:embed="rId1"/>
          <a:stretch/>
        </p:blipFill>
        <p:spPr>
          <a:xfrm>
            <a:off x="237960" y="285840"/>
            <a:ext cx="86680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erennial issues: Lack of reliable da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 still have no idea of the extent of the injuries, illnesses &amp; fatalities in NZ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is no coherent data collection strategy nor is there any compulsion to standardize the da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alibri"/>
              </a:rPr>
              <a:t>Problems with under-reporting &amp; subjected to manipulation. Also data surveillance systems rarely capture occupational injury &amp; illness data of precariously employed wor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ennial issues: Lack of reliable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mping different industries together, (eg agriculture, forestry &amp; fishing), some of which have the highest fatality rates in NZ &amp; include a large proportion of SMEs, makes industry analysis problemat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orts to improve the situation have been thwarted, for 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stablishment of NOHSAC &amp; 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Injury Surveillance Ministerial Advisory Panel [ISMAP]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Lack of  on-going funding in the area of injury (&amp; disease) surveillance &amp;  pre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erennial issues: Lack of rigorous evid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not clear is whether or not injury prevention initiatives actually fit the purpose for which they were design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whether or not national &amp; regional differences have been taken into consideratio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of the NZ injury prevention initiatives have been influenced by overseas models. However, what is not clear is whether overseas models are an appropriate fit in N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erennial issues: Lack of rigorous evid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218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 there is a plethora of injury prevention initiatives, there has been  little scrutiny of the efficacy of such programmes &amp; few publically available repor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Shannon et al. (1999) no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interventions in occupational safety are implemented with the sincere hope that they will work, but with a lack of solid evidence of their effectiveness [and] can sometimes make the situation worse” (p.161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 NOHSAC Technical Report, Number 12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42472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erennial issues: Lack of rigorou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Z evid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have been few evaluations of NZ injury prevention initiatives. Instead there is a reliance on subsequent injury data to become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 fac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asure of the success or failure of the prevention initiativ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injury prevention initiatives were designed around specific workplace hazards &amp; thus the focus of the evaluation (if indeed there ever was one) has been on the success or failure of injury reduction &amp; less (if at all) on the uptake of the initiative by the business commun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valuation on an injury prevention initiative  is typically carried out or controlled by those with a vested interest in its succ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erennial issues: The lack of sustaina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le there was often an initial flurry of activity to establish a particular injury prevention initiative, in most cases it was difficult to sust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the main reasons for an injury prevention initiative to falter was that once key protagonists were no longer involved &amp; suitable replacements were not found, it became difficult to sustain, e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/DoL/Waitakere City Council Cleaner Boat Production Projec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r reviews of the injury initiative is a way of ensuring that there is continual commitment from all par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ennial issue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ck of effective enforc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nce 1988 the Department of Labour has undergone major restructuring &amp; successive governments have to a greater or lesser degree “rolled back the state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e DoL was directed to focus exclusively on core labour market functions while taking a “side-line/advisory” position to most aspects of employment, including frontline enforce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is has also resulted i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content knowledge of OHS amongst civil servants responsible for this area &amp; a high turn-over in staff (restructuring &amp; poor pai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has often been a need for better integration between the various government agencies when tackling OHS &amp; stronger community links (but might change with Better Public Services program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alibri"/>
              </a:rPr>
              <a:t>Number of OHS inspectors by 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alibri"/>
              </a:rPr>
              <a:t>number enterprises</a:t>
            </a:r>
            <a:r>
              <a:rPr b="0" lang="en-NZ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600200"/>
          <a:ext cx="8229600" cy="3011400"/>
        </p:xfrm>
        <a:graphic>
          <a:graphicData uri="http://schemas.openxmlformats.org/drawingml/2006/table">
            <a:tbl>
              <a:tblPr/>
              <a:tblGrid>
                <a:gridCol w="2890800"/>
                <a:gridCol w="1800360"/>
                <a:gridCol w="1728720"/>
                <a:gridCol w="18097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. of OHS inspe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 of Business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,14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1,10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0,05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One way in which countries can be judged as to their level of sophistication over human rights is the way in which labour is treated &amp; afforded state prot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e barometer of the country’s human rights status can be measured in terms of th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e robustness of both OHS legislation &amp; the enforcement age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e level of occupational injuries &amp; illnes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Aotearoa NZ is also a good case study as it has a long tradition of introducing radical social, economic, &amp; employment policies, in which ACC is an excellent exampl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at we have adopted similar OHS legislation, why do we have a worse rate of occupational injury compared to the UK, Australia, etc?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are our valu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ck of effective enforcement (con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e reasons for the reduced coverage of inspectors are threefold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ere has been a systematic withholding of resources to the OHS inspectorate since the 1980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In theory self-regulation requires fewer inspectors as the onus is on the employer (&amp; to a lesser extent the employee) to ensure a healthy &amp; safe workpla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ere was a trade-off – employers involvement in setting standards &amp; DoL would back off. BUT there is either a lack of willingness (or a lack of competency) on the part of employers to engage in OHS infrastruct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g Minex OHS Mining reference group set up to develop performance standards &amp; codes of practice but nothing or very little eventua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ck of effective enforcement (con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e NZ Department of Labour was disestablished on the 1st July 2012 &amp; merged into a “mega” agency called the Ministry of Business, Innovation &amp; Employ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vernment press releases also reinforce the business focus of the Ministry, for 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stablishment of a new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usiness-fac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partment to take more effective leadership of NZ’s microeconomic policy agenda &amp; the development of practical decisions to achieve productivity improvement &amp; competitive, internationally-focused businesses &amp; industries…”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whelming tripartite support for a stand-alone OSH Ministry, that incorporates all accident investigation responsibilities (eg Transport Accident Investigation Commission, etc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ennial issues: Lack of commit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disestablishment of the Department of Labour also raises uncomfortable ques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Is the demise of the Department of Labour indicative of its lack of political influence &amp; employer patronage combined with the lack of influence of worker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Given its new form, 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BIE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capable of protecting the OHS of worker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Both questions are difficult to answ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merging Issues: Changing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Calibri"/>
              </a:rPr>
              <a:t>Demographic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Aging workforce</a:t>
            </a:r>
            <a:r>
              <a:rPr b="1" i="1" lang="en-NZ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 Those aged 75 &amp; over now make up 5.5 % of the total popul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Immigration: managing OHS in diverse settings is topical. Increasingly diverse workforce eg Auckland CBD approx over 70% are non-European &amp; possible changes to the demographics in Christchur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Work: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introduction of new technology (eg mining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emergence of more flexible forms of work &amp; organisations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ongoing intensification of 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perating within complex systems, for example: supply chains/sub-contracting, satellite divisions eg Aust/N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merging Issues: Changes in Emplo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Rise in the number of </a:t>
            </a: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non-standard 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precariously 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employed work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0-Day Trial Period: 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high % of injuries occur within the first 90 days of work &amp; will it be difficult to raise a clai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Industries are under increasing pressure – tighter margins (trucking &amp; fishing industries) &amp; increased local &amp; international competitio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Lack of skilled workers (eg engineering = lowering of OHS standards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merging Issues: Compens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mpens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bates around what, how &amp; who should be compensated will become more int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perience rating will impact how we set levies &amp; manage claims (earners vs work accounts = tension between employers &amp; employe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o privatise or not?: Another layer of complexity on busines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Merging compensation with enforcement? Two competing 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o what happens to the injured &amp; what impact does it have on family &amp; community? Migrants (RSE workers?), older worke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And what impact will the growing disparities between rich &amp; poor have on obtaining workers’ compensation? – </a:t>
            </a:r>
            <a:r>
              <a:rPr b="0" i="1" lang="en-NZ" sz="2400" spc="-1" strike="noStrike">
                <a:solidFill>
                  <a:srgbClr val="000000"/>
                </a:solidFill>
                <a:latin typeface="Calibri"/>
              </a:rPr>
              <a:t>Spirit Level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 by Richard Wilkinson &amp; Kate Picket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erennial issu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we know what causes injuries, why do they still occur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e to be addressed, commencing with understanding the extent of the prob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parate, robust OHS agency &amp; AC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Emerging issu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tegic plans need to include dialogue with all key players, recognising regional differences, different business sizes, etc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uld not ignore sunrise industries (focus is typically on  sunset industri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Revisit Woodhouse principl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including administrative efficie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Key Ingredients of OHS initiative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at injury prevention fads that based often with manufacturing, with caution but we can learn from other disciplines, eg traffic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partite, industry, &amp; community involvement &amp; commitment –  the success of Queensland building industry’s injury prevention initiati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Capacity &amp; capability building within sectors –necessar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ensure that the OHS initiatives will have an impact on the target grou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mpions &amp; mentor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ed well in “hard to crack” indust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ity &amp; succession: There has to be succession planning when introducing any OHS initiative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ions are ess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ohsnet.org.nz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Extent of the Probl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Zealand Values: Woodho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alibri"/>
              </a:rPr>
              <a:t>NZ’s Unique Compensation Sche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In 1967, a Royal Commission, chaired by the Hon. Owen Woodhouse investigated compensation for personal injury &amp; proposed a universal ‘no-fault’ system based on 5 guiding princi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Community responsibility: 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the community must protect all citizens as it is in nation’s interes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Comprehensive entitlement: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 All those injured should receive compensation regardless of the cau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alibri"/>
              </a:rPr>
              <a:t>NZ’s Unique Compensation Sche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Complete rehabilitation: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 The scheme must provide physical &amp; vocational recovery for all its citizens &amp; providing a fair monetary compensation for their lo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Real compensation 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for the whole period of in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5. Administrative efficiency :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There should be no delays or  inconsistenc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(Royal Commission to Inquire into &amp; Report upon Workers’ Compensation, 1967: 3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view of Presen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ed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ke River Coal Mine Dis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istchurch Earthquake (CTV building,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HSAC Technical Report 12 (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ependent Health &amp; Safety Taskforce (extended the spirit of the Taskforce &amp; invited comment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erennial issu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reliabl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eval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effective enfor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commi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erging Issu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ing workforce &amp; nature of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ing nature of employ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ing nature of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jury Prevention Initiativ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569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in drivers for ACC-initiated programmes 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of ACC compensation claims &amp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clai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ocus is on ‘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hazardo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 industr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geted interventions, eg, FishSafe &amp; FarmSaf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&amp;/or political pressure, for 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missions in response to government inquiries/hearings o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a result of trends perceived to be socially unacceptable, eg  a rise in a particular chemically-induced ill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f NZ’s OHS research &amp; preventative initiatives were funded by ACC, Health Research Council, DoL &amp; NOHSAC, but there is little current fund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Chart 4" descr=""/>
          <p:cNvPicPr/>
          <p:nvPr/>
        </p:nvPicPr>
        <p:blipFill>
          <a:blip r:embed="rId1"/>
          <a:stretch/>
        </p:blipFill>
        <p:spPr>
          <a:xfrm>
            <a:off x="0" y="835200"/>
            <a:ext cx="9144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01:03:58Z</dcterms:created>
  <dc:creator>Danae</dc:creator>
  <dc:description/>
  <dc:language>en-US</dc:language>
  <cp:lastModifiedBy>Glenn Barclay</cp:lastModifiedBy>
  <dcterms:modified xsi:type="dcterms:W3CDTF">2012-10-28T21:25:58Z</dcterms:modified>
  <cp:revision>478</cp:revision>
  <dc:subject/>
  <dc:title>Slide 1</dc:title>
</cp:coreProperties>
</file>