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00431-7334-4ACC-972B-419898F5E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99609-7BB1-4ED5-8834-DE22115D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5BB11-1259-4313-A25E-85D9CEA21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448EE-7691-44CE-BF1B-DC60223BA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4DA12-7323-44DB-BA6A-6D6A59479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7A459-10F3-4FFB-A9E6-748FC312F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B72B3-C639-41A0-B464-6CBDFF8E6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248EA-92EE-4A10-8C6D-6F7E4DFFD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0CA66-D036-4A4C-ACF7-7613F0F28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6BCDA-FB9A-40A1-8C00-A346D4326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1C83C-9779-4135-986C-9A7171DA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1A837-9C5E-48BD-BC16-BB3DAD74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906D4-401B-4A27-B3F0-AFCCFEDA4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0F8F9-345F-41C1-A0B5-656BA1D74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E0195-7207-45EE-B4B7-4DA388400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C8379-1AEF-4DB6-858A-036E62B06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29F40-E08B-4BFE-A145-11B93247C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3CBC-257D-4941-9492-91EC306BE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17ED-A935-41EC-9005-1F7F1A6F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279A8-96DD-460C-8125-470F28393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CE51-A587-43B0-B99A-A64A1146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476B-1FB2-487C-A867-2591F40E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EB710-0952-4E0C-8787-9361F7F0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D3AA-59B4-4622-B990-964945D58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1177-12BB-4EEA-B1E1-CBEC6A9092F5}"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D803-BEDD-46ED-B6E3-F3D13B861043}"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Occupational Health Perspective</a:t>
            </a:r>
            <a:endParaRPr b="0" lang="en-US" sz="38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zel Armstro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hair of the Gradual Process and Occupational Disease Pan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wyer working in employment and personal injury law</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y are NZers not claiming for occupational disease cover?</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DOL sa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Zers lack of awareness of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is a lack of awareness that the scheme covers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e reluctant to make a work injury claim</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uctance to claim because it will require disclosure of personal details/life style/health inform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st, time, effor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at are the occupational diseases in NZ?</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HSAC say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ise induced hearing loss – noi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rmatitis – hazardous substances – ski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ncers – hazardous substances – carcinoge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usculoskeletal disorders – physical and psychosocial disord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piratory disease – hazardous substance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en-NZ" sz="2500" spc="-1" strike="noStrike">
                <a:solidFill>
                  <a:srgbClr val="006633"/>
                </a:solidFill>
                <a:latin typeface="Garamond"/>
              </a:rPr>
              <a:t>What occupational diseases should ACC focus on in order to raise awareness?</a:t>
            </a:r>
            <a:br>
              <a:rPr sz="2500"/>
            </a:br>
            <a:endParaRPr b="0" lang="en-US" sz="25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nc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art/circulatory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spiratory disea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ccupational Cancer</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f the 700-1,000 workers who die – 30-40% are caused by cancer – mainly lung canc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ung cancer due to asbestos, diesel fumes, environmental tobacc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sothelioma due to asbes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ukaemia from benzen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ladder cancer from dyes, paints, solv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irculatory system</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 strain, e.g. shif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rbon monoxide from engine exha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nvironmental tobacco smoke</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spiratory Diseas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osures to d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ccupational asth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sbesto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6633"/>
                </a:solidFill>
                <a:latin typeface="Garamond"/>
              </a:rPr>
              <a:t>What is being done?</a:t>
            </a:r>
            <a:endParaRPr b="0" lang="en-US" sz="29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wo workplace surveys are underway (Massey – 5,000 workers) &amp; Uni of Otago – smaller number but more detail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of the larger employers collect information about occupational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Govt agencies collect da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should we be doing better?</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verall – information is: fragmented, under resourced, lacks strategic direction and co-ord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urveys have not routinely or systematically been done across N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fore surveying of workers, workplaces and specific exposures is a priorit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asurement of personal and area exposures is required.</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If we want to improve knowledge in NZ</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need to describe the hazards by occupation, industry, geography and worker demograph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scribe hazard contro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dentify new and emerging hazards.</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nging Workforce: some challenges</a:t>
            </a:r>
            <a:endParaRPr b="0" lang="en-US" sz="25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sual and part time work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Self employ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geing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bile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ers less unionised</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ssumption in this presentation is that everyone wants workers to be healthy, but those workers who suffer occupational disease ought be covered and compensated by the NZ accident compensation schem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Gradual Process Panel was established by the IPRC Act 2001 to address issues concerning GP conditions, and occupational diseas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focuses on one aspect of ACC’s work: occupational disea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Challenges to ACC</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etting information out to the medical fraternity, workers, unions, employers and the self employed about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o-ordinating the surveys and data collection of workers and workplac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ublicising the fact that workers can be covered for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iving effect to the 2008 amendments in the IPRC A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Understanding the purpose of a presumptive schedule.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Reducing barriers to access by claimants to ACC cover and entitlements.</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llenges to workers if the scheme is administered by private insurers</a:t>
            </a:r>
            <a:endParaRPr b="0" lang="en-US" sz="25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isk rating will discourage employers from participating in surveys – why would you identify problem areas in your indust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ulture of ignorance about occupational disease will continue to prevai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 incentive on insurers to ensure claimants are covered for occupational diseas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ifficulties proving cause will be magnified</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onclus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Law Commission recommendation to phase in an extension of the scheme through coverage of occupational disease remains sou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CC has many challenges ahe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private insurers are involved we will not see improvement in the coverage and delivery of entitlements for NZ workers who suffer from occupational disease.</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Law Commission approach to extension of the scheme to cover sickness and diseas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how the scheme has evolved over the last 50+ year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areas where NZers are failing to makes claim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the challenges for ACC under the existing schem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NZers would be affected if private insurers administered work cove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Woodhouse Report: 1967</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roposed to retain cover for certain industrial diseases as provided for in the WC Ac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afness from noise should be included. Deaf persons should have the advantage of a rebuttable presumption.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6633"/>
                </a:solidFill>
                <a:latin typeface="Garamond"/>
              </a:rPr>
              <a:t>Personal Injury: prevention and recovery </a:t>
            </a:r>
            <a:br>
              <a:rPr sz="1900"/>
            </a:br>
            <a:r>
              <a:rPr b="0" lang="en-NZ" sz="1900" spc="-1" strike="noStrike">
                <a:solidFill>
                  <a:srgbClr val="006633"/>
                </a:solidFill>
                <a:latin typeface="Garamond"/>
              </a:rPr>
              <a:t>Report of the Law Commission 1988</a:t>
            </a:r>
            <a:br>
              <a:rPr sz="1900"/>
            </a:br>
            <a:br>
              <a:rPr sz="1900"/>
            </a:br>
            <a:r>
              <a:rPr b="0" lang="en-NZ" sz="1900" spc="-1" strike="noStrike">
                <a:solidFill>
                  <a:srgbClr val="006633"/>
                </a:solidFill>
                <a:latin typeface="Garamond"/>
              </a:rPr>
              <a:t>Authored by Sir Owen Woodhouse and Sir Ken Keith</a:t>
            </a:r>
            <a:endParaRPr b="0" lang="en-US" sz="19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Law Commission recommended:</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xtension of the scheme in stages</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hasing in through acceptance of industrial diseas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dding a detailed specification of injury causes as a schedule to the legislation</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Using the International Classification of Diseases – WH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classes could be added or reduced</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the requirement of relevant employment within 2 years be removed; and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all incapacity (within scope of legislation) arising after 1 April 1974 should be covere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scheme has evolved</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ccident compensation scheme is adaptable. </a:t>
            </a:r>
            <a:br>
              <a:rPr sz="2600"/>
            </a:br>
            <a:r>
              <a:rPr b="0" lang="en-NZ"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shows how the Law Commission recommendation of phasing or staging the extension of scheme by extending cover for occupational diseases has occurred over the last 50+ year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6633"/>
                </a:solidFill>
                <a:latin typeface="Garamond"/>
              </a:rPr>
              <a:t>Timeline of changes to the scheme</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56 – prescribed period – 2 years from date of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employmen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72 – prescribed period – 2 year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2 – exposures from employment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8 – Law Commission Repor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2 – incapacity arises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8 – incapacity arises after 1.4.74 and presumptiv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schedule lists 1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1 – presumptive schedule lists 17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presumptive schedule lists 4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legislation changes to ease burden of </a:t>
            </a:r>
            <a:r>
              <a:rPr b="0" lang="en-NZ" sz="1900" spc="-1" strike="noStrike">
                <a:solidFill>
                  <a:srgbClr val="000000"/>
                </a:solidFill>
                <a:latin typeface="Arial"/>
              </a:rPr>
              <a:t>	</a:t>
            </a:r>
            <a:r>
              <a:rPr b="0" lang="en-NZ" sz="1900" spc="-1" strike="noStrike">
                <a:solidFill>
                  <a:srgbClr val="000000"/>
                </a:solidFill>
                <a:latin typeface="Arial"/>
              </a:rPr>
              <a:t>proof on claimants, </a:t>
            </a:r>
            <a:r>
              <a:rPr b="0" lang="en-NZ" sz="1900" spc="-1" strike="noStrike">
                <a:solidFill>
                  <a:srgbClr val="000000"/>
                </a:solidFill>
                <a:latin typeface="Arial"/>
              </a:rPr>
              <a:t>	</a:t>
            </a:r>
            <a:r>
              <a:rPr b="0" lang="en-NZ" sz="1900" spc="-1" strike="noStrike">
                <a:solidFill>
                  <a:srgbClr val="000000"/>
                </a:solidFill>
                <a:latin typeface="Arial"/>
              </a:rPr>
              <a:t>    provide greater flexibility to amend schedule 2, clarifies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CC’s responsibility to pay for the investigation of claim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9-   What happens if National gives the scheme to privat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insurers?</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ACC - claims for occupational disease - 2006</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5,014 claims lodg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7,103 claims accep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911 (32% declin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30 m spent per annum</a:t>
            </a:r>
            <a:endParaRPr b="0" lang="en-US" sz="30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ost common claims accepted: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hearing loss,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usculoskeletal,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skin disorder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NOHSAC: How many work related diseases and injuries occur in NZ each year?</a:t>
            </a:r>
            <a:endParaRPr b="0" lang="en-US" sz="25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00- 1,000 people die from work related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00 die from injuries received a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0,000 new cases of work related disease and injury occu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peculation that there is under claiming for occupational disease claims</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1:42:01Z</dcterms:created>
  <dc:creator>Hazel Armstrong</dc:creator>
  <dc:description/>
  <dc:language>en-US</dc:language>
  <cp:lastModifiedBy>glenn.barclay</cp:lastModifiedBy>
  <dcterms:modified xsi:type="dcterms:W3CDTF">2008-08-29T04:54:25Z</dcterms:modified>
  <cp:revision>22</cp:revision>
  <dc:subject/>
  <dc:title>Slide 1</dc:title>
</cp:coreProperties>
</file>