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FF8B5-BBFB-4A9A-B5AF-C52D08432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252ED-EB12-449A-AEDC-62DC1273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E4CC-12A6-486A-B415-431354E36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2F4FF-86A1-47B3-A97A-18E56BFAF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5F625-5594-4CF3-853A-6034F1204D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4A0C8-0C06-4945-AA35-F31F38712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0C2FE-4974-4534-AC2A-0B9383725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21B72-A28E-4691-9335-BF9B6F94F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FBC4C-50C2-4215-AABB-2912B99AA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F31D4-178E-45F0-8E9A-123B693B3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402FC-B224-4DC8-AE84-05219530A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27E8E-158A-4022-95D9-9F142C28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55A1C-978D-4917-9E99-41EFE29A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5C7CE-945E-4521-BFC6-56A69CC8B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D94AB-BABA-4F69-82D6-0CA824153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6100D-9CA1-4F07-883B-EAC3B2E80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F0553-C5A1-4543-81FB-BBEE63758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78453-DF57-477B-BB59-FC1D341D1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F7902-E814-43D8-A984-DF452B30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445E-79D3-49CE-9DE9-38C5AD884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1383-9780-4F9F-A1A1-0FE0D354E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B73C-7219-4933-B777-9ED5A2F1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182D-E53B-4E8F-B78F-F7833D79E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145E-1146-4D46-9278-AB6CF079B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3786-A148-4A5D-A97C-5E44356B9DE0}"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6888-9EE2-46EF-AC7C-4B9335D884D1}" type="slidenum">
              <a:rPr b="0" lang="en-GB"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Occupational Health Perspective</a:t>
            </a:r>
            <a:endParaRPr b="0" lang="en-US" sz="3800" spc="-1" strike="noStrike">
              <a:solidFill>
                <a:srgbClr val="006633"/>
              </a:solidFill>
              <a:latin typeface="Garamond"/>
            </a:endParaRPr>
          </a:p>
        </p:txBody>
      </p:sp>
      <p:sp>
        <p:nvSpPr>
          <p:cNvPr id="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zel Armstro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hair of the Gradual Process and Occupational Disease Pan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wyer working in employment and personal injury law</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y are NZers not claiming for occupational disease cover?</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DOL sa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Zers lack of awareness of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 is a lack of awareness that the scheme covers occupational disease; an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re reluctant to make a work injury claim</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uctance to claim because it will require disclosure of personal details/life style/health informatio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st, time, effort</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What are the occupational diseases in NZ?</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HSAC say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ise induced hearing loss – noi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rmatitis – hazardous substances – ski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ncers – hazardous substances – carcinoge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usculoskeletal disorders – physical and psychosocial disorder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piratory disease – hazardous substances</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0" lang="en-NZ" sz="2500" spc="-1" strike="noStrike">
                <a:solidFill>
                  <a:srgbClr val="006633"/>
                </a:solidFill>
                <a:latin typeface="Garamond"/>
              </a:rPr>
              <a:t>What occupational diseases should ACC focus on in order to raise awareness?</a:t>
            </a:r>
            <a:br>
              <a:rPr sz="2500"/>
            </a:br>
            <a:endParaRPr b="0" lang="en-US" sz="25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nc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eart/circulatory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espiratory disea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ccupational Cancer</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f the 700-1,000 workers who die – 30-40% are caused by cancer – mainly lung canc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ung cancer due to asbestos, diesel fumes, environmental tobacc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sothelioma due to asbesto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ukaemia from benzen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Bladder cancer from dyes, paints, solv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irculatory system</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 strain, e.g. shif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rbon monoxide from engine exha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nvironmental tobacco smoke</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Respiratory Diseas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xposures to dus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ccupational asth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sbesto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6633"/>
                </a:solidFill>
                <a:latin typeface="Garamond"/>
              </a:rPr>
              <a:t>What is being done?</a:t>
            </a:r>
            <a:endParaRPr b="0" lang="en-US" sz="29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wo workplace surveys are underway (Massey – 5,000 workers) &amp; Uni of Otago – smaller number but more detail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of the larger employers collect information about occupational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ome Govt agencies collect da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What should we be doing better?</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verall – information is: fragmented, under resourced, lacks strategic direction and co-ordin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urveys have not routinely or systematically been done across NZ.</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refore surveying of workers, workplaces and specific exposures is a priorit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easurement of personal and area exposures is required.</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If we want to improve knowledge in NZ</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 need to describe the hazards by occupation, industry, geography and worker demograph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scribe hazard contro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dentify new and emerging hazards.</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nging Workforce: some challenges</a:t>
            </a:r>
            <a:endParaRPr b="0" lang="en-US" sz="25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asual and part time work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Self employ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geing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bile workfor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orkers less unionised</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ssumption in this presentation is that everyone wants workers to be healthy, but those workers who suffer occupational disease ought be covered and compensated by the NZ accident compensation schem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Gradual Process Panel was established by the IPRC Act 2001 to address issues concerning GP conditions, and occupational diseas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focuses on one aspect of ACC’s work: occupational disea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Challenges to ACC</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etting information out to the medical fraternity, workers, unions, employers and the self employed about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o-ordinating the surveys and data collection of workers and workplac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Publicising the fact that workers can be covered for occupational disease.</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Giving effect to the 2008 amendments in the IPRC Ac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Understanding the purpose of a presumptive schedule.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Reducing barriers to access by claimants to ACC cover and entitlements.</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Challenges to workers if the scheme is administered by private insurers</a:t>
            </a:r>
            <a:endParaRPr b="0" lang="en-US" sz="25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isk rating will discourage employers from participating in surveys – why would you identify problem areas in your indust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ulture of ignorance about occupational disease will continue to prevai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No incentive on insurers to ensure claimants are covered for occupational diseas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ifficulties proving cause will be magnified</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Conclusio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Law Commission recommendation to phase in an extension of the scheme through coverage of occupational disease remains soun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CC has many challenges ahe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private insurers are involved we will not see improvement in the coverage and delivery of entitlements for NZ workers who suffer from occupational disease.</a:t>
            </a:r>
            <a:endParaRPr b="0"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Outline of Presentation</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Law Commission approach to extension of the scheme to cover sickness and diseas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how the scheme has evolved over the last 50+ year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identify the areas where NZers are failing to makes claim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e will look at the challenges for ACC under the existing schem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w NZers would be affected if private insurers administered work cove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Woodhouse Report: 1967</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roposed to retain cover for certain industrial diseases as provided for in the WC Ac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Deafness from noise should be included. Deaf persons should have the advantage of a rebuttable presumption.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6633"/>
                </a:solidFill>
                <a:latin typeface="Garamond"/>
              </a:rPr>
              <a:t>Personal Injury: prevention and recovery </a:t>
            </a:r>
            <a:br>
              <a:rPr sz="1900"/>
            </a:br>
            <a:r>
              <a:rPr b="0" lang="en-NZ" sz="1900" spc="-1" strike="noStrike">
                <a:solidFill>
                  <a:srgbClr val="006633"/>
                </a:solidFill>
                <a:latin typeface="Garamond"/>
              </a:rPr>
              <a:t>Report of the Law Commission 1988</a:t>
            </a:r>
            <a:br>
              <a:rPr sz="1900"/>
            </a:br>
            <a:br>
              <a:rPr sz="1900"/>
            </a:br>
            <a:r>
              <a:rPr b="0" lang="en-NZ" sz="1900" spc="-1" strike="noStrike">
                <a:solidFill>
                  <a:srgbClr val="006633"/>
                </a:solidFill>
                <a:latin typeface="Garamond"/>
              </a:rPr>
              <a:t>Authored by Sir Owen Woodhouse and Sir Ken Keith</a:t>
            </a:r>
            <a:endParaRPr b="0" lang="en-US" sz="19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Law Commission recommended:</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xtension of the scheme in stages</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hasing in through acceptance of industrial diseas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dding a detailed specification of injury causes as a schedule to the legislation</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Using the International Classification of Diseases – WH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classes could be added or reduced</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the requirement of relevant employment within 2 years be removed; and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at all incapacity (within scope of legislation) arising after 1 April 1974 should be covere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6633"/>
                </a:solidFill>
                <a:latin typeface="Garamond"/>
              </a:rPr>
              <a:t>The scheme has evolved</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ccident compensation scheme is adaptable. </a:t>
            </a:r>
            <a:br>
              <a:rPr sz="2600"/>
            </a:br>
            <a:r>
              <a:rPr b="0" lang="en-NZ"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is presentation shows how the Law Commission recommendation of phasing or staging the extension of scheme by extending cover for occupational diseases has occurred over the last 50+ years.</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006633"/>
                </a:solidFill>
                <a:latin typeface="Garamond"/>
              </a:rPr>
              <a:t>Timeline of changes to the scheme</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56 – prescribed period – 2 years from date of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employmen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72 – prescribed period – 2 year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2 – exposures from employment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88 – Law Commission Repor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2 – incapacity arises after 1.4.74</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1998 – incapacity arises after 1.4.74 and presumptiv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schedule lists 1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1 – presumptive schedule lists 17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presumptive schedule lists 41 diseas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8 – legislation changes to ease burden of </a:t>
            </a:r>
            <a:r>
              <a:rPr b="0" lang="en-NZ" sz="1900" spc="-1" strike="noStrike">
                <a:solidFill>
                  <a:srgbClr val="000000"/>
                </a:solidFill>
                <a:latin typeface="Arial"/>
              </a:rPr>
              <a:t>	</a:t>
            </a:r>
            <a:r>
              <a:rPr b="0" lang="en-NZ" sz="1900" spc="-1" strike="noStrike">
                <a:solidFill>
                  <a:srgbClr val="000000"/>
                </a:solidFill>
                <a:latin typeface="Arial"/>
              </a:rPr>
              <a:t>proof on claimants, </a:t>
            </a:r>
            <a:r>
              <a:rPr b="0" lang="en-NZ" sz="1900" spc="-1" strike="noStrike">
                <a:solidFill>
                  <a:srgbClr val="000000"/>
                </a:solidFill>
                <a:latin typeface="Arial"/>
              </a:rPr>
              <a:t>	</a:t>
            </a:r>
            <a:r>
              <a:rPr b="0" lang="en-NZ" sz="1900" spc="-1" strike="noStrike">
                <a:solidFill>
                  <a:srgbClr val="000000"/>
                </a:solidFill>
                <a:latin typeface="Arial"/>
              </a:rPr>
              <a:t>    provide greater flexibility to amend schedule 2, clarifies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CC’s responsibility to pay for the investigation of claim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Arial"/>
              </a:rPr>
              <a:t>2009-   What happens if National gives the scheme to private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a:t>
            </a:r>
            <a:r>
              <a:rPr b="0" lang="en-NZ" sz="1900" spc="-1" strike="noStrike">
                <a:solidFill>
                  <a:srgbClr val="000000"/>
                </a:solidFill>
                <a:latin typeface="Arial"/>
              </a:rPr>
              <a:t>    insurers?</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6633"/>
                </a:solidFill>
                <a:latin typeface="Garamond"/>
              </a:rPr>
              <a:t>ACC - claims for occupational disease - 2006</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5,014 claims lodg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7,103 claims accept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911 (32% declin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30 m spent per annum</a:t>
            </a:r>
            <a:endParaRPr b="0" lang="en-US" sz="30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ost common claims accepted: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hearing loss,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musculoskeletal, </a:t>
            </a:r>
            <a:endParaRPr b="0" lang="en-US" sz="1700" spc="-1" strike="noStrike">
              <a:solidFill>
                <a:srgbClr val="000000"/>
              </a:solidFill>
              <a:latin typeface="Arial"/>
            </a:endParaRPr>
          </a:p>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700" spc="-1" strike="noStrike">
                <a:solidFill>
                  <a:srgbClr val="000000"/>
                </a:solidFill>
                <a:latin typeface="Arial"/>
              </a:rPr>
              <a:t>skin disorder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6633"/>
                </a:solidFill>
                <a:latin typeface="Garamond"/>
              </a:rPr>
              <a:t>NOHSAC: How many work related diseases and injuries occur in NZ each year?</a:t>
            </a:r>
            <a:endParaRPr b="0" lang="en-US" sz="25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700- 1,000 people die from work related disea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100 die from injuries received at 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20,000 new cases of work related disease and injury occu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Speculation that there is under claiming for occupational disease claims</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21:42:01Z</dcterms:created>
  <dc:creator>Hazel Armstrong</dc:creator>
  <dc:description/>
  <dc:language>en-US</dc:language>
  <cp:lastModifiedBy>glenn.barclay</cp:lastModifiedBy>
  <dcterms:modified xsi:type="dcterms:W3CDTF">2008-08-29T04:54:25Z</dcterms:modified>
  <cp:revision>22</cp:revision>
  <dc:subject/>
  <dc:title>Slide 1</dc:title>
</cp:coreProperties>
</file>