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Click to move the slide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9432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51280" y="9432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91D67A4-BC29-42DB-86C5-5E0909461ED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1BDBE2D0-DF53-4F47-8DBC-A1C899B2238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2009 ACC announced it would no longer fund the Otago Exercise Programme for preventing falls in the elderly. This was a hard decision to make as the programme was popular and had proven clinical benefit. However, the programme was not cost-effective to deliver and did not represent value-for-m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9C0B1F1-A054-4A94-AACC-E5DB347662A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C1F1861-F38B-4269-8B0D-B8EA8E0EE1C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B720F76-5D5D-41E8-8B00-9323A8F8AA9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B26613D-FBBF-4EFD-9764-A54CB2DED39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25790CA-1E6D-4F05-A7EC-7378F249373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F32B094-17A0-4D56-8649-049BDBA8DF6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5C94411B-B434-49CD-A8A0-632B83CF2C1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59B73A5-82DE-4F86-A0CB-CD703AAAF34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A70FDAE-2A6E-42F2-9634-6C5D99EA7C3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5F01A91-BE57-400A-BBF9-594E29CCBCD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51280" y="9433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271E632-6EC5-49EC-A480-1F7911BC066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F15-9E9A-47F8-899D-7A431A06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BF6-32CD-480E-A9AF-4B4D0017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4A5-E58A-43E6-9090-8BAE4687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1808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016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1600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1808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016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9B8-4892-41D7-ABDD-0B68EBE6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682D-3260-49BC-ADBF-567CAC17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6C90-AA80-43AB-9CFE-2F537EB8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D8AE-A3AA-42EF-A73A-B1C5F2E3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1373-33DA-4501-BB15-92EEA29F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3EF4-4692-49E8-9510-DF956AD0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6B8D-F06B-4440-BCD9-57644FFA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ADC8-D33D-41DA-88F3-5A52E0AC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21F-FE1C-4EA8-9A1C-D6D5F0B3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1B81-2235-4219-92B4-8B88472D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21F3-5834-42CB-99BA-5F5F4B5B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EF83-9BE8-44F8-8C28-F9977F79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B23C-9432-467E-9923-1977678E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808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016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600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808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016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25CC-3879-4C1F-BFBC-1C2B8BE1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DE640-48FC-41B5-811D-8FD9D9E5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56B7-748C-47AA-A8EB-2C3E7B89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42B3-A1A0-4B89-B019-C516F2B9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A976B-559F-411A-B0E9-3AB3917A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167F-C6C4-48D1-B212-D2B0EC27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38A-25AB-4C54-B153-B7D36196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20EE0-661C-46C2-AC2F-694EEA3F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E0AE-2A9D-4721-85A6-98C8065B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0170-AD87-46D6-AD1C-A8BBFFE6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44F4-7F2F-4A2F-905B-00A24697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6D22-7C40-48C0-B375-C5F729FB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A8D5-2B40-406F-B897-1828A186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1808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20160" y="141264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600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1808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20160" y="3782520"/>
            <a:ext cx="24778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1E9C2-2FDF-4D35-B663-1E0175A2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F43-9B9D-4937-AF55-AFC26CED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579-1D86-4813-A974-515D3E70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9A5-3469-4208-85C7-850F781C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9D5-12E0-4446-95BE-A2C3410E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9800" y="378252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693-8A98-4DCB-8608-E8F91408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9800" y="1412640"/>
            <a:ext cx="37555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6000" y="3782520"/>
            <a:ext cx="769608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044-89EB-42CE-AF9A-E5E5F9E2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1f1fb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296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70160" indent="-222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78040" indent="-228600">
              <a:spcBef>
                <a:spcPts val="700"/>
              </a:spcBef>
              <a:buClr>
                <a:srgbClr val="000066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5C78-54A8-45AA-8D87-AD648ABAC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 flipV="1">
            <a:off x="609480" y="0"/>
            <a:ext cx="0" cy="68580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9"/>
          <p:cNvSpPr/>
          <p:nvPr/>
        </p:nvSpPr>
        <p:spPr>
          <a:xfrm>
            <a:off x="0" y="1143000"/>
            <a:ext cx="9144000" cy="76320"/>
          </a:xfrm>
          <a:prstGeom prst="parallelogram">
            <a:avLst>
              <a:gd name="adj" fmla="val -35259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0"/>
          <p:cNvSpPr/>
          <p:nvPr/>
        </p:nvSpPr>
        <p:spPr>
          <a:xfrm>
            <a:off x="609480" y="6515280"/>
            <a:ext cx="8534520" cy="342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FDD2-2A6A-4D79-8A7A-38D71BFD49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a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f1f1fb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609480" y="0"/>
            <a:ext cx="0" cy="68580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0" y="1143000"/>
            <a:ext cx="9144000" cy="76320"/>
          </a:xfrm>
          <a:prstGeom prst="parallelogram">
            <a:avLst>
              <a:gd name="adj" fmla="val -35259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09480" y="6515280"/>
            <a:ext cx="8534520" cy="3427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296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370160" indent="-222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778040" indent="-228600">
              <a:spcBef>
                <a:spcPts val="700"/>
              </a:spcBef>
              <a:buClr>
                <a:srgbClr val="000066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9144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68F4-4188-4166-9714-5AD9D75B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Times New Roman"/>
              </a:rPr>
              <a:t>FULL FUNDING, EXPERIENCE RATING AND INJURY PREVENTION  </a:t>
            </a:r>
            <a:br>
              <a:rPr sz="4000"/>
            </a:br>
            <a:br>
              <a:rPr sz="4000"/>
            </a:br>
            <a:r>
              <a:rPr b="1" lang="en-NZ" sz="2400" spc="-1" strike="noStrike">
                <a:solidFill>
                  <a:srgbClr val="0d0d0d"/>
                </a:solidFill>
                <a:latin typeface="Times New Roman"/>
              </a:rPr>
              <a:t>29</a:t>
            </a:r>
            <a:r>
              <a:rPr b="1" lang="en-NZ" sz="2400" spc="-1" strike="noStrike" baseline="30000">
                <a:solidFill>
                  <a:srgbClr val="0d0d0d"/>
                </a:solidFill>
                <a:latin typeface="Times New Roman"/>
              </a:rPr>
              <a:t>TH</a:t>
            </a:r>
            <a:r>
              <a:rPr b="1" lang="en-NZ" sz="2400" spc="-1" strike="noStrike">
                <a:solidFill>
                  <a:srgbClr val="0d0d0d"/>
                </a:solidFill>
                <a:latin typeface="Times New Roman"/>
              </a:rPr>
              <a:t> OCTOBER</a:t>
            </a:r>
            <a:br>
              <a:rPr sz="2400"/>
            </a:br>
            <a:r>
              <a:rPr b="1" lang="en-NZ" sz="2400" spc="-1" strike="noStrike">
                <a:solidFill>
                  <a:srgbClr val="0d0d0d"/>
                </a:solidFill>
                <a:latin typeface="Times New Roman"/>
              </a:rPr>
              <a:t>2012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640" y="5950080"/>
            <a:ext cx="2700360" cy="40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san St Joh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But what are the costs of accidents- ie the MB of accident prevention?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16000" y="1413000"/>
            <a:ext cx="7696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As per ACC’s legislative requirements, ACC </a:t>
            </a:r>
            <a:r>
              <a:rPr b="1" i="1" lang="en-NZ" sz="2800" spc="-1" strike="noStrike">
                <a:solidFill>
                  <a:srgbClr val="000066"/>
                </a:solidFill>
                <a:latin typeface="Arial"/>
              </a:rPr>
              <a:t>can only spend money on injury prevention </a:t>
            </a: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where it can be confident of delivering savings to the Scheme.”  </a:t>
            </a:r>
            <a:r>
              <a:rPr b="0" lang="en-NZ" sz="2000" spc="-1" strike="noStrike">
                <a:solidFill>
                  <a:srgbClr val="000066"/>
                </a:solidFill>
                <a:latin typeface="Arial"/>
              </a:rPr>
              <a:t>( Statement of Intent ,2011-2014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2009 ACC announced it would no longer fund the Otago Exercise Programme for preventing falls in the elderly. This was a hard decision to make as the programme was popular and had proven clinical benefit. However, the programme was not cost-effective to deliver and did not represent value-for-money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does ACC spend now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ll it be as rigorous in assessing experience rating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4646-5ECB-4756-8D43-453316269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Has experience rating worked?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What has happe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What is the evaluation proces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Why no data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594-DD4E-4AC7-90CD-C781EB64F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D36D-C194-44BB-A128-EC59DE5FC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06440" y="404640"/>
            <a:ext cx="8724960" cy="56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Workshop 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341360"/>
            <a:ext cx="70423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Susan St Joh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Felicity Lam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Graham Rodg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D404-77BE-4D6C-B7B7-628450F11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3"/>
          <p:cNvSpPr/>
          <p:nvPr/>
        </p:nvSpPr>
        <p:spPr>
          <a:xfrm>
            <a:off x="4788000" y="6453360"/>
            <a:ext cx="377172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Woodhouse and safety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71280" y="1267920"/>
            <a:ext cx="73292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habilit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ens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most important is obviously prevention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ffective education, adequate inspection and firm enforcement Must all be backed up by the allocation of funds”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610480" y="1752480"/>
            <a:ext cx="53352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942C-73D2-4FB6-93C4-0278B14C6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Role of insurance model in ACC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4400" y="1752480"/>
            <a:ext cx="37720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Full funding required for solvenc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Clearly defined and limited  cover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True competition required for  privatisation of the work account and…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59280" y="1773360"/>
            <a:ext cx="37720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Well on way to achieving full funding goal by 2019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No immediate plans for privatisation of the work accou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26E1-4DFB-470D-9663-86A0B5B96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7160" y="-677880"/>
            <a:ext cx="788832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NZ" sz="2800" spc="-1" strike="noStrike">
                <a:solidFill>
                  <a:srgbClr val="000066"/>
                </a:solidFill>
                <a:latin typeface="Century Gothic"/>
              </a:rPr>
              <a:t>	</a:t>
            </a:r>
            <a:br>
              <a:rPr sz="2800"/>
            </a:br>
            <a:r>
              <a:rPr b="1" lang="en-GB" sz="2800" spc="-1" strike="noStrike">
                <a:solidFill>
                  <a:srgbClr val="000066"/>
                </a:solidFill>
                <a:latin typeface="Century Gothic"/>
              </a:rPr>
              <a:t>	</a:t>
            </a:r>
            <a:br>
              <a:rPr sz="2800"/>
            </a:br>
            <a:r>
              <a:rPr b="1" lang="en-NZ" sz="2800" spc="-1" strike="noStrike">
                <a:solidFill>
                  <a:srgbClr val="000066"/>
                </a:solidFill>
                <a:latin typeface="Century Gothic"/>
              </a:rPr>
              <a:t>Reserves $21.7 billion  Claims $2.6 billion 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491E-96FA-4145-BB1A-306C36FBB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Chart 1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6516720" cy="5143680"/>
          </a:xfrm>
          <a:prstGeom prst="rect">
            <a:avLst/>
          </a:prstGeom>
          <a:ln w="0">
            <a:noFill/>
          </a:ln>
        </p:spPr>
      </p:pic>
      <p:cxnSp>
        <p:nvCxnSpPr>
          <p:cNvPr id="156" name="Straight Arrow Connector 6"/>
          <p:cNvCxnSpPr/>
          <p:nvPr/>
        </p:nvCxnSpPr>
        <p:spPr>
          <a:xfrm flipV="1">
            <a:off x="7186320" y="1585440"/>
            <a:ext cx="626040" cy="13262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7" name="TextBox 1"/>
          <p:cNvSpPr/>
          <p:nvPr/>
        </p:nvSpPr>
        <p:spPr>
          <a:xfrm>
            <a:off x="7296840" y="1125360"/>
            <a:ext cx="1773360" cy="45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00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ADFE-4E75-4186-A415-AA1853E62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0" y="141120"/>
            <a:ext cx="8893080" cy="580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Annual report 2012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16000" y="141264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Impact of low interest rat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Increase in outstanding claims li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$3.8 bill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Wingdings 3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66"/>
                </a:solidFill>
                <a:latin typeface="Arial"/>
              </a:rPr>
              <a:t>Higher investment income from bo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B5D-39DA-4590-BC88-AC8E6E93E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700360" y="3436920"/>
            <a:ext cx="498168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ACC 2012 annual report</a:t>
            </a: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AD80-07B8-4D0A-ADA7-3CFD0D621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065240" y="1484280"/>
            <a:ext cx="566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organisation is now on a much better track financially, and the solvency of the Scheme has improved significantly. Positive investment returns, despite a difficult investment climate, coupled with a focus on effective rehabilitation, allowed the Government to reduce levies for the 2012–13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66"/>
                </a:solidFill>
                <a:latin typeface="Century Gothic"/>
              </a:rPr>
              <a:t>Experience rating introduced 1 April 2011. 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812000" y="6093000"/>
            <a:ext cx="798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69AF-76B9-4663-A9D9-CCBACF15F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971640" y="141300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improves financial incentives for employers to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encourage injury prevention in the workplace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 help injured employees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eturn to work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 safely and quickly as possibl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42920" y="321300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mployers who have lower than average injury rates, with better than average rehabilitation or return-to-work rates, may receive a discount on their ACC work levy. Those with worse than average claims experience may receive a loading on their levy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xperience-rated employers contribute 75% of the total levy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5:06:43Z</dcterms:created>
  <dc:creator>St John, Susan</dc:creator>
  <dc:description/>
  <dc:language>en-US</dc:language>
  <cp:lastModifiedBy>St John, Susan</cp:lastModifiedBy>
  <cp:lastPrinted>2011-08-25T06:35:34Z</cp:lastPrinted>
  <dcterms:modified xsi:type="dcterms:W3CDTF">2012-10-28T02:35:17Z</dcterms:modified>
  <cp:revision>728</cp:revision>
  <dc:subject/>
  <dc:title>Community Trust of  Mid &amp; South Canterbury Inc.</dc:title>
</cp:coreProperties>
</file>