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D69D-4D82-4AE1-9338-18E9FFD4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8680-B0C6-4B94-A155-55D52EF1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FE0F-5040-4365-A491-8908E610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FBCA-CCFD-4201-9908-A24D457EF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B74F-5E5C-4DEC-BF47-DDCE2FA2F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9094-3547-402A-AEFC-8AE28C1E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B181-B8B2-44DC-AD41-136FC6A5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BB28-212A-473E-B735-57B2C601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6367-9A69-4480-B536-1947575A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F5EF-88E8-4556-AC92-79E59C7F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64B3-B4BA-4F52-8634-387EE2ED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CBDF-E0C5-4FD6-8B17-179E31A5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C47E-021B-4445-A9C3-19B8008A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A63B-8941-457E-9C79-B477AFD5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3FFF-ADE4-407D-AAEA-7382A76F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45A4-8D9E-4DCB-A3BC-68754F0C1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1D88-3192-4CC2-A31E-F9A167938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2698B-1F46-4F4F-B90D-21933725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60961-CA7F-44BD-BBAC-D7B3D155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81DBE-5475-48EC-875C-40816F92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4FD51-A0D1-4114-A8A3-1E41549E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18C47-CE5C-4B0F-84DF-1C369066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B183-E161-425B-B862-42500D7F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EF24A-E1E4-4968-A7CD-DA588687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6197C-62C5-4384-996F-9BBFF77A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58EC6-D0B1-4B75-8E7C-9F9A9E87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F1482-80D4-4BAA-85DA-F7CEC0C7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A4227-E9C1-4F15-95D0-8ED81943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6BADA-AC6A-487F-98F5-FAC970B03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437AB-FC37-4C9E-864C-723D7563D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333C-382D-4F55-905C-6FB6355C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76A1-E01B-4864-81D4-15F040A5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2A22-EF97-4F2E-A54B-6DAAD782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1C4D-B90E-410A-9158-8ADF010F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A1D4-D74B-451B-BD36-89A716C4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AF13-E01B-4C43-B9E6-73077B6C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2119-A2EF-4AB7-98EF-909D35B19592}" type="slidenum">
              <a:rPr b="1" lang="en-NZ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711B-E945-42AD-B0C9-7276F1FB3126}" type="slidenum"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E278-4D99-4130-B5B9-ADC93358AB5E}" type="slidenum"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68440"/>
            <a:ext cx="7772400" cy="42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 Black"/>
              </a:rPr>
              <a:t>‘</a:t>
            </a:r>
            <a:r>
              <a:rPr b="0" lang="en-NZ" sz="6000" spc="-1" strike="noStrike">
                <a:solidFill>
                  <a:srgbClr val="000000"/>
                </a:solidFill>
                <a:latin typeface="Arial Black"/>
              </a:rPr>
              <a:t>CHOICE’ IN THE WORKPLACE ACCOUNT OF ACC</a:t>
            </a:r>
            <a:endParaRPr b="0" lang="en-US" sz="60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700" spc="-1" strike="noStrike">
                <a:solidFill>
                  <a:srgbClr val="d1282e"/>
                </a:solidFill>
                <a:latin typeface="Arial Black"/>
              </a:rPr>
              <a:t>WORKSHOP PRESENTATION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700" spc="-1" strike="noStrike">
                <a:solidFill>
                  <a:srgbClr val="d1282e"/>
                </a:solidFill>
                <a:latin typeface="Arial Black"/>
              </a:rPr>
              <a:t>‘</a:t>
            </a:r>
            <a:r>
              <a:rPr b="0" lang="en-NZ" sz="1700" spc="-1" strike="noStrike">
                <a:solidFill>
                  <a:srgbClr val="d1282e"/>
                </a:solidFill>
                <a:latin typeface="Arial Black"/>
              </a:rPr>
              <a:t>ACC: A BETTER FUTURE’ CONFERENCE – OCTOBER 2012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ACC Futures logoSmall"/>
          <p:cNvPicPr/>
          <p:nvPr/>
        </p:nvPicPr>
        <p:blipFill>
          <a:blip r:embed="rId1"/>
          <a:stretch/>
        </p:blipFill>
        <p:spPr>
          <a:xfrm>
            <a:off x="0" y="0"/>
            <a:ext cx="209556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39640" y="1159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d1282e"/>
                </a:solidFill>
                <a:latin typeface="Arial Black"/>
              </a:rPr>
              <a:t>IF NOT CHOICE THEN WHAT?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Improving control through better engagement with ACC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ACC Futures logoSmall"/>
          <p:cNvPicPr/>
          <p:nvPr/>
        </p:nvPicPr>
        <p:blipFill>
          <a:blip r:embed="rId1"/>
          <a:stretch/>
        </p:blipFill>
        <p:spPr>
          <a:xfrm>
            <a:off x="0" y="0"/>
            <a:ext cx="209556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6840" y="1752120"/>
            <a:ext cx="7620120" cy="4373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ACC Futures logoSmall"/>
          <p:cNvPicPr/>
          <p:nvPr/>
        </p:nvPicPr>
        <p:blipFill>
          <a:blip r:embed="rId2"/>
          <a:stretch/>
        </p:blipFill>
        <p:spPr>
          <a:xfrm>
            <a:off x="0" y="0"/>
            <a:ext cx="209556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6840" y="1752120"/>
            <a:ext cx="7620120" cy="4373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ACC Futures logoSmall"/>
          <p:cNvPicPr/>
          <p:nvPr/>
        </p:nvPicPr>
        <p:blipFill>
          <a:blip r:embed="rId2"/>
          <a:stretch/>
        </p:blipFill>
        <p:spPr>
          <a:xfrm>
            <a:off x="0" y="0"/>
            <a:ext cx="209556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5791320" cy="113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d1282e"/>
                </a:solidFill>
                <a:latin typeface="Arial Black"/>
              </a:rPr>
              <a:t>WHY IS CHOICE IMPORTANT?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or employ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mployers would cease to be price takers. Market theory suggests that competition between insurers will drive down co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mployers might achieve greater influence over claims managem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or work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ACC Futures logoSmall"/>
          <p:cNvPicPr/>
          <p:nvPr/>
        </p:nvPicPr>
        <p:blipFill>
          <a:blip r:embed="rId1"/>
          <a:stretch/>
        </p:blipFill>
        <p:spPr>
          <a:xfrm>
            <a:off x="0" y="0"/>
            <a:ext cx="209556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5791320" cy="113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d1282e"/>
                </a:solidFill>
                <a:latin typeface="Arial Black"/>
              </a:rPr>
              <a:t>IS ACC AN INSURER?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The purpose of AC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s to deliver no-fault personal injury cover for everyone in New Zealand, including overseas visitor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Scheme supports the social contract where by individuals forego the right to sue for compensatory damages following an injury, in return for receiving personal injury cover.”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ACC Statement of Intent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ACC Futures logoSmall"/>
          <p:cNvPicPr/>
          <p:nvPr/>
        </p:nvPicPr>
        <p:blipFill>
          <a:blip r:embed="rId1"/>
          <a:stretch/>
        </p:blipFill>
        <p:spPr>
          <a:xfrm>
            <a:off x="0" y="0"/>
            <a:ext cx="209556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5791320" cy="113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d1282e"/>
                </a:solidFill>
                <a:latin typeface="Arial Black"/>
              </a:rPr>
              <a:t>IS ACC AN INSURER?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752120"/>
            <a:ext cx="54626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s the scheme will be a government-scheme of </a:t>
            </a:r>
            <a:r>
              <a:rPr b="1" i="1" lang="en-NZ" sz="2400" spc="-1" strike="noStrike">
                <a:solidFill>
                  <a:srgbClr val="000000"/>
                </a:solidFill>
                <a:latin typeface="Arial"/>
              </a:rPr>
              <a:t>social insurance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t must in the final resort receive the backing of the state.” (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Woodhouse, p 175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change was done by substituting a single, state welfare service for the earlier systems; and converting the previous insurance premiums to taxes levied on wages and vehicles.”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(Woodhouse to </a:t>
            </a: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ACC Forum – The future of ACC,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ugust 201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ACC Futures logoSmall"/>
          <p:cNvPicPr/>
          <p:nvPr/>
        </p:nvPicPr>
        <p:blipFill>
          <a:blip r:embed="rId1"/>
          <a:stretch/>
        </p:blipFill>
        <p:spPr>
          <a:xfrm>
            <a:off x="0" y="0"/>
            <a:ext cx="2095560" cy="1136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5919840" y="1773360"/>
            <a:ext cx="26956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84000" y="115560"/>
            <a:ext cx="579132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d1282e"/>
                </a:solidFill>
                <a:latin typeface="Arial Black"/>
              </a:rPr>
              <a:t>IS ACC AN INSURER?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43" name="Content Placeholder 2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7620120" cy="4370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ACC Futures logoSmall"/>
          <p:cNvPicPr/>
          <p:nvPr/>
        </p:nvPicPr>
        <p:blipFill>
          <a:blip r:embed="rId2"/>
          <a:stretch/>
        </p:blipFill>
        <p:spPr>
          <a:xfrm>
            <a:off x="0" y="0"/>
            <a:ext cx="2095560" cy="113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1047600" y="1700280"/>
          <a:ext cx="7196400" cy="3973320"/>
        </p:xfrm>
        <a:graphic>
          <a:graphicData uri="http://schemas.openxmlformats.org/drawingml/2006/table">
            <a:tbl>
              <a:tblPr/>
              <a:tblGrid>
                <a:gridCol w="3333960"/>
                <a:gridCol w="3862440"/>
              </a:tblGrid>
              <a:tr h="39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 is just </a:t>
                      </a:r>
                      <a:r>
                        <a:rPr b="1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vate insurance </a:t>
                      </a: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n by the sta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 </a:t>
                      </a: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verage limit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</a:t>
                      </a: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ght demarca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 </a:t>
                      </a: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uarial fund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</a:t>
                      </a: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tial levi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</a:t>
                      </a: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erience rating to drive safe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</a:t>
                      </a: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vatisa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</a:t>
                      </a: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rrow insurance schem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 is </a:t>
                      </a:r>
                      <a:r>
                        <a:rPr b="1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al insur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 </a:t>
                      </a: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titlements in statu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o fine prin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</a:t>
                      </a: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verage can exp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</a:t>
                      </a: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exible for new risk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</a:t>
                      </a: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YG princi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</a:t>
                      </a: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at-rate levi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</a:t>
                      </a: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sk pool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</a:t>
                      </a: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fety separate issu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39640" y="260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d1282e"/>
                </a:solidFill>
                <a:latin typeface="Arial Black"/>
              </a:rPr>
              <a:t>THE EXPERIENCE OF 1999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1989000"/>
            <a:ext cx="76201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ncrease in the number of disputed claims for cover, often between the private insurers themselv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More applications for review were generated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ulture of non- or under-reporting of workplace accident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administrative burdens for all treatment provider typ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insurers were reluctant to approve claims and were often late in honouring invo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imants knew little about their entitlements, including the identity of the workplace insur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HIH failur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ACC Futures logoSmall"/>
          <p:cNvPicPr/>
          <p:nvPr/>
        </p:nvPicPr>
        <p:blipFill>
          <a:blip r:embed="rId1"/>
          <a:stretch/>
        </p:blipFill>
        <p:spPr>
          <a:xfrm>
            <a:off x="0" y="0"/>
            <a:ext cx="209556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39640" y="152280"/>
            <a:ext cx="579132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d1282e"/>
                </a:solidFill>
                <a:latin typeface="Arial Black"/>
              </a:rPr>
              <a:t>THE 2011 PROPOSAL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Employers able to choose work-related personal injury cover from private insurer or AC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ACC to remain in the market as a Crown Agent (no tax, no return to governmen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Choice on ‘opt-out’ basis (ACC as default provider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ACC’s pricing for Work Account cover to be deregula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Central claims handling facili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ACC to take over cost of claims management in event of insurer insolvency – funded by levy on all insur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Levy on insurers for public health acute serv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ACC Futures logoSmall"/>
          <p:cNvPicPr/>
          <p:nvPr/>
        </p:nvPicPr>
        <p:blipFill>
          <a:blip r:embed="rId1"/>
          <a:stretch/>
        </p:blipFill>
        <p:spPr>
          <a:xfrm>
            <a:off x="0" y="0"/>
            <a:ext cx="209556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10920" y="14040"/>
            <a:ext cx="5791320" cy="112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d1282e"/>
                </a:solidFill>
                <a:latin typeface="Arial Black"/>
              </a:rPr>
              <a:t>PROBLEMS WITH 2011 PROPOSALS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Limited margin to lower costs (ACC administratively efficient, falling levies, AEP and experience rating option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CC with competitive advant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Lack of evidence of employer dem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Lack of interest from insur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Unknown costs of regulatory reg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Unknown how residual claims will be fund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Unknown how costs of gradual process injuries will be alloca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Unknown how the costs of public health and emergency transport services will be alloca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ACC Futures logoSmall"/>
          <p:cNvPicPr/>
          <p:nvPr/>
        </p:nvPicPr>
        <p:blipFill>
          <a:blip r:embed="rId1"/>
          <a:stretch/>
        </p:blipFill>
        <p:spPr>
          <a:xfrm>
            <a:off x="0" y="0"/>
            <a:ext cx="209556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84000" y="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d1282e"/>
                </a:solidFill>
                <a:latin typeface="Arial Black"/>
              </a:rPr>
              <a:t>OFFICIAL ADVICE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re is a high degree of uncertainty regarding the magnitude of both costs and benefits (and in some cases, even the sign – i.e. whether they will have a net positive or negative impact…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… “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etter pricing signals to employers can be achieved through experience rating and self-insurance arrangements”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ACC Futures logoSmall"/>
          <p:cNvPicPr/>
          <p:nvPr/>
        </p:nvPicPr>
        <p:blipFill>
          <a:blip r:embed="rId1"/>
          <a:stretch/>
        </p:blipFill>
        <p:spPr>
          <a:xfrm>
            <a:off x="0" y="0"/>
            <a:ext cx="209556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7T03:13:54Z</dcterms:created>
  <dc:creator>Glenn Barclay</dc:creator>
  <dc:description/>
  <dc:language>en-US</dc:language>
  <cp:lastModifiedBy>Glenn Barclay</cp:lastModifiedBy>
  <dcterms:modified xsi:type="dcterms:W3CDTF">2012-10-27T05:12:49Z</dcterms:modified>
  <cp:revision>11</cp:revision>
  <dc:subject/>
  <dc:title>‘Choice’ in the Workplace account of ACC</dc:title>
</cp:coreProperties>
</file>