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D574CFB-E223-4E68-85E3-5B492C8CB79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earch has been informed and inspired by every researcher in this 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8B4-F461-4F5B-BFA8-9D48CDA3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D75-523C-40B9-960F-A99A3A4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211-0E18-4DEE-B8B7-816E8857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013-AF02-4AF4-A535-56C8A35C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D56-1256-49EC-9DB8-EBB81C8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FA0-2B8D-4802-9A59-2006C359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A60-B46F-4C93-98A8-34B402C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CAB-4CC9-44D1-82B6-33B744A4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B1A-52B9-4DE7-BF80-D50D4410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584-10AE-4696-903B-B3B70D9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DF7-5015-4466-9B86-0D34F29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A82-2F1F-4FE3-AE9A-4D0CBEE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186-4324-4345-9E83-077F1FBD9AAD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384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Injury Prevention: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Where to from he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5280" y="364500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Felicity L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ohsnet.org.n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26920" y="5157720"/>
            <a:ext cx="7561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hart 3" descr=""/>
          <p:cNvPicPr/>
          <p:nvPr/>
        </p:nvPicPr>
        <p:blipFill>
          <a:blip r:embed="rId1"/>
          <a:stretch/>
        </p:blipFill>
        <p:spPr>
          <a:xfrm>
            <a:off x="0" y="285840"/>
            <a:ext cx="8906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Chart 5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eliable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till have no idea of the extent of the injuries, illnesses &amp; fatalities in 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is no coherent data collection strategy nor is there any compulsion to standardize the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alibri"/>
              </a:rPr>
              <a:t>Problems with under-reporting &amp; subjected to manipulation. Also data surveillance systems rarely capture occupational injury &amp; illness data of precariously employed wo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ennial issues: Lack of reliabl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ping different industries together, (eg agriculture, forestry &amp; fishing), some of which have the highest fatality rates in NZ &amp; include a large proportion of SMEs, makes industry analysis problema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s to improve the situation have been thwarted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stablishment of NOHSAC &amp;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jury Surveillance Ministerial Advisory Panel [ISMAP]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ack of  on-going funding in the area of injury (&amp; disease) surveillance &amp; 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ot clear is whether or not injury prevention initiatives actually fit the purpose for which they were desig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hether or not national &amp; regional differences have been taken into consider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NZ injury prevention initiatives have been influenced by overseas models. However, what is not clear is whether overseas models are an appropriate fit in N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re is a plethora of injury prevention initiatives, there has been  little scrutiny of the efficacy of such programmes &amp; few publically available repor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hannon et al. (1999) no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terventions in occupational safety are implemented with the sincere hope that they will work, but with a lack of solid evidence of their effectiveness [and] can sometimes make the situation worse” (p.16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NOHSAC Technical Report, Number 1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Lack of rigorou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Z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have been few evaluations of NZ injury prevention initiatives. Instead there is a reliance on subsequent injury data to becom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sure of the success or failure of the prevention initiativ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jury prevention initiatives were designed around specific workplace hazards &amp; thus the focus of the evaluation (if indeed there ever was one) has been on the success or failure of injury reduction &amp; less (if at all) on the uptake of the initiative by the business commun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valuation on an injury prevention initiative  is typically carried out or controlled by those with a vested interest in its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ennial issues: The lack of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here was often an initial flurry of activity to establish a particular injury prevention initiative, in most cases it was difficult to sust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ain reasons for an injury prevention initiative to falter was that once key protagonists were no longer involved &amp; suitable replacements were not found, it became difficult to sustain, 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/DoL/Waitakere City Council Cleaner Boat Production Proj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reviews of the injury initiative is a way of ensuring that there is continual commitment from all par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ennial issu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nce 1988 the Department of Labour has undergone major restructuring &amp; successive governments have to a greater or lesser degree “rolled back the state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DoL was directed to focus exclusively on core labour market functions while taking a “side-line/advisory” position to most aspects of employment, including frontline enforc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is has also resulted 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content knowledge of OHS amongst civil servants responsible for this area &amp; a high turn-over in staff (restructuring &amp; poor pa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has often been a need for better integration between the various government agencies when tackling OHS &amp; stronger community links (but might change with Better Public Services program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Number of OHS inspectors by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alibri"/>
              </a:rPr>
              <a:t>number enterprises</a:t>
            </a: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011400"/>
        </p:xfrm>
        <a:graphic>
          <a:graphicData uri="http://schemas.openxmlformats.org/drawingml/2006/table">
            <a:tbl>
              <a:tblPr/>
              <a:tblGrid>
                <a:gridCol w="2890800"/>
                <a:gridCol w="1800360"/>
                <a:gridCol w="1728720"/>
                <a:gridCol w="1809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 of OHS inspe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 of Business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,14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1,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,0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One way in which countries can be judged as to their level of sophistication over human rights is the way in which labour is treated &amp; afforded state prot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barometer of the country’s human rights status can be measured in terms of 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robustness of both OHS legislation &amp; the enforcement ag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level of occupational injuries &amp; illne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otearoa NZ is also a good case study as it has a long tradition of introducing radical social, economic, &amp; employment policies, in which ACC is an excellent exampl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at we have adopted similar OHS legislation, why do we have a worse rate of occupational injury compared to the UK, Australia, etc?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are our val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 (co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reasons for the reduced coverage of inspectors are threefol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re has been a systematic withholding of resources to the OHS inspectorate since the 1980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n theory self-regulation requires fewer inspectors as the onus is on the employer (&amp; to a lesser extent the employee) to ensure a healthy &amp; safe workpl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re was a trade-off – employers involvement in setting standards &amp; DoL would back off. BUT there is either a lack of willingness (or a lack of competency) on the part of employers to engage in OHS infrastruc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 Minex OHS Mining reference group set up to develop performance standards &amp; codes of practice but nothing or very little eventu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ck of effective enforcement (co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NZ Department of Labour was disestablished on the 1st July 2012 &amp; merged into a “mega” agency called the Ministry of Business, Innovation &amp;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press releases also reinforce the business focus of the Ministry,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stablishment of a new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usiness-fac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artment to take more effective leadership of NZ’s microeconomic policy agenda &amp; the development of practical decisions to achieve productivity improvement &amp; competitive, internationally-focused businesses &amp; industries…”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whelming tripartite support for a stand-alone OSH Ministry, that incorporates all accident investigation responsibilities (eg Transport Accident Investigation Commission, etc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ennial issues: Lack of commi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disestablishment of the Department of Labour also raises uncomfortable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s the demise of the Department of Labour indicative of its lack of political influence &amp; employer patronage combined with the lack of influence of wor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iven its new form,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E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capable of protecting the OHS of wor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Both questions are difficult to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hanging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alibri"/>
              </a:rPr>
              <a:t>Demographic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ging workforce</a:t>
            </a:r>
            <a:r>
              <a:rPr b="1" i="1" lang="en-NZ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Those aged 75 &amp; over now make up 5.5 % of the total popu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mmigration: managing OHS in diverse settings is topical. Increasingly diverse workforce eg Auckland CBD approx over 70% are non-European &amp; possible changes to the demographics in Christchu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Work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introduction of new technology (eg mining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emergence of more flexible forms of work &amp; organisations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ongoing intensification of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rating within complex systems, for example: supply chains/sub-contracting, satellite divisions eg Aust/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hanges in 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ise in the number of 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non-standard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precariously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employed work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-Day Trial Period: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high % of injuries occur within the first 90 days of work &amp; will it be difficult to raise a clai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dustries are under increasing pressure – tighter margins (trucking &amp; fishing industries) &amp; increased local &amp; international competi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ack of skilled workers (eg engineering = lowering of OHS standard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ging Issues: Compen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bates around what, how &amp; who should be compensated will become more int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perience rating will impact how we set levies &amp; manage claims (earners vs work accounts = tension between employers &amp; employ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o privatise or not?: Another layer of complexity on busin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Merging compensation with enforcement? Two competing 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o what happens to the injured &amp; what impact does it have on family &amp; community? Migrants (RSE workers?), older work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And what impact will the growing disparities between rich &amp; poor have on obtaining workers’ compensation? –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</a:rPr>
              <a:t>Spirit Level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by Richard Wilkinson &amp; Kate Picket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erennial 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know what causes injuries, why do they still occu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to be addressed, commencing with understanding the extent of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arate, robust OHS agency &amp; A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merging 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ic plans need to include dialogue with all key players, recognising regional differences, different business sizes, et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ignore sunrise industries (focus is typically on  sunset industri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Revisit Woodhouse princip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ncluding administrative ef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ey Ingredients of OHS initiativ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 injury prevention fads that based often with manufacturing, with caution but we can learn from other disciplines, eg traffic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partite, industry, &amp; community involvement &amp; commitment –  the success of Queensland building industry’s injury prevention initia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Capacity &amp; capability building within sectors –necessa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that the OHS initiatives will have an impact on the target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mpions &amp; mentor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ed well in “hard to crack” indus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ity &amp; succession: There has to be succession planning when introducing any OHS initiativ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s are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ohsnet.org.n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tent of the Probl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Zealand Values: Wood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NZ’s Unique Compensation Sch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n 1967, a Royal Commission, chaired by the Hon. Owen Woodhouse investigated compensation for personal injury &amp; proposed a universal ‘no-fault’ system based on 5 guiding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munity responsibility: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the community must protect all citizens as it is in nation’s intere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prehensive entitlement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All those injured should receive compensation regardless of the ca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NZ’s Unique Compensation Sch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Complete rehabilitation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The scheme must provide physical &amp; vocational recovery for all its citizens &amp; providing a fair monetary compensation for their lo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Real compensation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for the whole period of in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alibri"/>
              </a:rPr>
              <a:t>5. Administrative efficiency :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There should be no delays or  inconsisten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(Royal Commission to Inquire into &amp; Report upon Workers’ Compensation, 1967: 3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ke River Coal Mine Dis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tchurch Earthquake (CTV building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HSAC Technical Report 12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Health &amp; Safety Taskforce (extended the spirit of the Taskforce &amp; invited commen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ennial iss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reliabl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effective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ommi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ing 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workforce &amp; nature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nature of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nature of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jury Prevention Initiativ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n drivers for ACC-initiated programm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ACC compensation claims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cus is on ‘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azard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indust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ed interventions, eg, FishSafe &amp; FarmSaf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&amp;/or political pressure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issions in response to government inquiries/hearings 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result of trends perceived to be socially unacceptable, eg  a rise in a particular chemically-induced 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NZ’s OHS research &amp; preventative initiatives were funded by ACC, Health Research Council, DoL &amp; NOHSAC, but there is little current fun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hart 4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1:03:58Z</dcterms:created>
  <dc:creator>Danae</dc:creator>
  <dc:description/>
  <dc:language>en-US</dc:language>
  <cp:lastModifiedBy>Glenn Barclay</cp:lastModifiedBy>
  <dcterms:modified xsi:type="dcterms:W3CDTF">2012-10-28T21:25:58Z</dcterms:modified>
  <cp:revision>478</cp:revision>
  <dc:subject/>
  <dc:title>Slide 1</dc:title>
</cp:coreProperties>
</file>