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B388D-A60E-4105-B060-31B68D8E9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944D9-690B-4BA5-A3E7-A2D282B47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66B6F-1F16-4DE5-B6B7-FCB8CCFB2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8FBE-640C-44E1-87E4-854902A70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3A8CB-F9EA-40A7-A884-C843DF215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E5050-28CB-417A-AA27-D48B319F6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AF1F5-5CC9-4261-B211-7BFBBABC4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545D8-6189-4EE5-B080-A5C31D204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DFBBD-3C71-4AF2-A6E7-D539572AC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A60EE-D8CA-47B6-BEE4-6B0625183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EA5DD-D69B-43B9-8A72-2098835A3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FC784-C0A2-4457-A20F-9D7E6B196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F6D40-DFF5-47E2-B132-4C8F29647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6B873-1B34-40DD-8193-7948459F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266FC-E92C-44D2-A1BA-C7E857CC8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4219A-0035-41D5-9CC2-7FB1F33AC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3555B-FCA0-41EA-A0F6-114428F16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01AD-7DA0-417B-998E-ED84B896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06ED5-06ED-4006-86C4-7E60F4B8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A917E-4094-4B10-A069-ED955FAB7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A79A-E4CB-454B-B0D1-C26C1ED02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0610-AD18-4036-95C9-2BCE4650C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59D5-4512-4AF7-B7E0-32E18516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E28BC-62E1-40F2-8BAB-BC3EEB035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404C-CE02-4F13-89CB-773C09D04BD0}" type="slidenum">
              <a:rPr b="0" lang="en-GB"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2C73-553C-43ED-A9F3-F5BF47D8B905}" type="slidenum">
              <a:rPr b="0" lang="en-GB"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Occupational Health Perspective</a:t>
            </a:r>
            <a:endParaRPr b="0" lang="en-US" sz="38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zel Armstro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hair of the Gradual Process and Occupational Disease Pan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wyer working in employment and personal injury law</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Why are NZers not claiming for occupational disease cover?</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DOL say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Zers lack of awareness of occupational disease; an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is a lack of awareness that the scheme covers occupational disease; an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e reluctant to make a work injury claim</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uctance to claim because it will require disclosure of personal details/life style/health inform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st, time, effort</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What are the occupational diseases in NZ?</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HSAC say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ise induced hearing loss – noi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rmatitis – hazardous substances – ski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ncers – hazardous substances – carcinoge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usculoskeletal disorders – physical and psychosocial disorder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piratory disease – hazardous substance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en-NZ" sz="2500" spc="-1" strike="noStrike">
                <a:solidFill>
                  <a:srgbClr val="006633"/>
                </a:solidFill>
                <a:latin typeface="Garamond"/>
              </a:rPr>
              <a:t>What occupational diseases should ACC focus on in order to raise awareness?</a:t>
            </a:r>
            <a:br>
              <a:rPr sz="2500"/>
            </a:br>
            <a:endParaRPr b="0" lang="en-US" sz="25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nc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art/circulatory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spiratory disea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ccupational Cancer</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f the 700-1,000 workers who die – 30-40% are caused by cancer – mainly lung canc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ung cancer due to asbestos, diesel fumes, environmental tobacc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sothelioma due to asbes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ukaemia from benzen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ladder cancer from dyes, paints, solv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Circulatory system</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 strain, e.g. shift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rbon monoxide from engine exhaus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nvironmental tobacco smoke</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spiratory Disease</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osures to dus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ccupational asth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sbesto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6633"/>
                </a:solidFill>
                <a:latin typeface="Garamond"/>
              </a:rPr>
              <a:t>What is being done?</a:t>
            </a:r>
            <a:endParaRPr b="0" lang="en-US" sz="29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wo workplace surveys are underway (Massey – 5,000 workers) &amp; Uni of Otago – smaller number but more detail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ome of the larger employers collect information about occupational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ome Govt agencies collect dat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should we be doing better?</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verall – information is: fragmented, under resourced, lacks strategic direction and co-ord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urveys have not routinely or systematically been done across N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fore surveying of workers, workplaces and specific exposures is a priorit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asurement of personal and area exposures is required.</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If we want to improve knowledge in NZ</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need to describe the hazards by occupation, industry, geography and worker demograph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scribe hazard contro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dentify new and emerging hazards.</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Changing Workforce: some challenges</a:t>
            </a:r>
            <a:endParaRPr b="0" lang="en-US" sz="25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sual and part time work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Self employ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geing workfo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bile workfo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ers less unionised</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utline of Presenta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ssumption in this presentation is that everyone wants workers to be healthy, but those workers who suffer occupational disease ought be covered and compensated by the NZ accident compensation schem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Gradual Process Panel was established by the IPRC Act 2001 to address issues concerning GP conditions, and occupational diseas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is presentation focuses on one aspect of ACC’s work: occupational disea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Challenges to ACC</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Getting information out to the medical fraternity, workers, unions, employers and the self employed about occupational diseas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o-ordinating the surveys and data collection of workers and workplac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ublicising the fact that workers can be covered for occupational diseas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Giving effect to the 2008 amendments in the IPRC A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Understanding the purpose of a presumptive schedule.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Reducing barriers to access by claimants to ACC cover and entitlements.</a:t>
            </a:r>
            <a:endParaRPr b="0" lang="en-US" sz="2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Challenges to workers if the scheme is administered by private insurers</a:t>
            </a:r>
            <a:endParaRPr b="0" lang="en-US" sz="25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isk rating will discourage employers from participating in surveys – why would you identify problem areas in your indust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ulture of ignorance about occupational disease will continue to prevai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 incentive on insurers to ensure claimants are covered for occupational diseas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ifficulties proving cause will be magnified</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Conclus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Law Commission recommendation to phase in an extension of the scheme through coverage of occupational disease remains sou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CC has many challenges ahe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private insurers are involved we will not see improvement in the coverage and delivery of entitlements for NZ workers who suffer from occupational disease.</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utline of Presentation</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identify the Law Commission approach to extension of the scheme to cover sickness and diseas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look at how the scheme has evolved over the last 50+ year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identify the areas where NZers are failing to makes claim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look at the challenges for ACC under the existing schem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NZers would be affected if private insurers administered work cove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Woodhouse Report: 1967</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roposed to retain cover for certain industrial diseases as provided for in the WC Ac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afness from noise should be included. Deaf persons should have the advantage of a rebuttable presumption.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6633"/>
                </a:solidFill>
                <a:latin typeface="Garamond"/>
              </a:rPr>
              <a:t>Personal Injury: prevention and recovery </a:t>
            </a:r>
            <a:br>
              <a:rPr sz="1900"/>
            </a:br>
            <a:r>
              <a:rPr b="0" lang="en-NZ" sz="1900" spc="-1" strike="noStrike">
                <a:solidFill>
                  <a:srgbClr val="006633"/>
                </a:solidFill>
                <a:latin typeface="Garamond"/>
              </a:rPr>
              <a:t>Report of the Law Commission 1988</a:t>
            </a:r>
            <a:br>
              <a:rPr sz="1900"/>
            </a:br>
            <a:br>
              <a:rPr sz="1900"/>
            </a:br>
            <a:r>
              <a:rPr b="0" lang="en-NZ" sz="1900" spc="-1" strike="noStrike">
                <a:solidFill>
                  <a:srgbClr val="006633"/>
                </a:solidFill>
                <a:latin typeface="Garamond"/>
              </a:rPr>
              <a:t>Authored by Sir Owen Woodhouse and Sir Ken Keith</a:t>
            </a:r>
            <a:endParaRPr b="0" lang="en-US" sz="19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Law Commission recommended:</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xtension of the scheme in stages</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hasing in through acceptance of industrial diseas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dding a detailed specification of injury causes as a schedule to the legislation</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Using the International Classification of Diseases – WH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classes could be added or reduced</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the requirement of relevant employment within 2 years be removed; and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all incapacity (within scope of legislation) arising after 1 April 1974 should be covere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scheme has evolved</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ccident compensation scheme is adaptable. </a:t>
            </a:r>
            <a:br>
              <a:rPr sz="2600"/>
            </a:br>
            <a:r>
              <a:rPr b="0" lang="en-NZ"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is presentation shows how the Law Commission recommendation of phasing or staging the extension of scheme by extending cover for occupational diseases has occurred over the last 50+ year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6633"/>
                </a:solidFill>
                <a:latin typeface="Garamond"/>
              </a:rPr>
              <a:t>Timeline of changes to the scheme</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56 – prescribed period – 2 years from date of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employmen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72 – prescribed period – 2 year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82 – exposures from employment after 1.4.74</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88 – Law Commission Repor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92 – incapacity arises after 1.4.74</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98 – incapacity arises after 1.4.74 and presumptive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schedule lists 11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1 – presumptive schedule lists 17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8 – presumptive schedule lists 41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8 – legislation changes to ease burden of </a:t>
            </a:r>
            <a:r>
              <a:rPr b="0" lang="en-NZ" sz="1900" spc="-1" strike="noStrike">
                <a:solidFill>
                  <a:srgbClr val="000000"/>
                </a:solidFill>
                <a:latin typeface="Arial"/>
              </a:rPr>
              <a:t>	</a:t>
            </a:r>
            <a:r>
              <a:rPr b="0" lang="en-NZ" sz="1900" spc="-1" strike="noStrike">
                <a:solidFill>
                  <a:srgbClr val="000000"/>
                </a:solidFill>
                <a:latin typeface="Arial"/>
              </a:rPr>
              <a:t>proof on claimants, </a:t>
            </a:r>
            <a:r>
              <a:rPr b="0" lang="en-NZ" sz="1900" spc="-1" strike="noStrike">
                <a:solidFill>
                  <a:srgbClr val="000000"/>
                </a:solidFill>
                <a:latin typeface="Arial"/>
              </a:rPr>
              <a:t>	</a:t>
            </a:r>
            <a:r>
              <a:rPr b="0" lang="en-NZ" sz="1900" spc="-1" strike="noStrike">
                <a:solidFill>
                  <a:srgbClr val="000000"/>
                </a:solidFill>
                <a:latin typeface="Arial"/>
              </a:rPr>
              <a:t>    provide greater flexibility to amend schedule 2, clarifies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CC’s responsibility to pay for the investigation of claim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9-   What happens if National gives the scheme to private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insurers?</a:t>
            </a:r>
            <a:endParaRPr b="0"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ACC - claims for occupational disease - 2006</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25,014 claims lodg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7,103 claims accept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7911 (32% declin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30 m spent per annum</a:t>
            </a:r>
            <a:endParaRPr b="0" lang="en-US" sz="30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Most common claims accepted: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hearing loss,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musculoskeletal,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skin disorder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NOHSAC: How many work related diseases and injuries occur in NZ each year?</a:t>
            </a:r>
            <a:endParaRPr b="0" lang="en-US" sz="25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700- 1,000 people die from work related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00 die from injuries received at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20,000 new cases of work related disease and injury occu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peculation that there is under claiming for occupational disease claims</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21:42:01Z</dcterms:created>
  <dc:creator>Hazel Armstrong</dc:creator>
  <dc:description/>
  <dc:language>en-US</dc:language>
  <cp:lastModifiedBy>glenn.barclay</cp:lastModifiedBy>
  <dcterms:modified xsi:type="dcterms:W3CDTF">2008-08-29T04:54:25Z</dcterms:modified>
  <cp:revision>22</cp:revision>
  <dc:subject/>
  <dc:title>Slide 1</dc:title>
</cp:coreProperties>
</file>