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Click to move the slide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0" y="9432720"/>
            <a:ext cx="2946240" cy="495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51280" y="9432720"/>
            <a:ext cx="2946240" cy="495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FB91B39-94AE-4F90-8542-73F5AB56B45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CE6B55D6-3880-4BEE-8BD4-26DBCA957A6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2009 ACC announced it would no longer fund the Otago Exercise Programme for preventing falls in the elderly. This was a hard decision to make as the programme was popular and had proven clinical benefit. However, the programme was not cost-effective to deliver and did not represent value-for-m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EAE34FB-7285-4444-9082-F911A0EE6D6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47CB768-0D3E-497B-B963-C20F39ED49F1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812F567-6E73-4173-82B1-2D31C6394417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856A2D4-F4CA-4DBC-A036-D6BF41E68B9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EF58BE7-D3E6-48B5-BB14-E3E1A4BD898F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9147313-75F5-4174-9C7B-2F3478EFC841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514A3B4A-F2F5-4FD8-9A6E-ABF6F158036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F997DCC-8648-4D48-9F15-0CD35BB3B84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8DF86D8-FE55-400E-9013-26ED958242A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CC11BF6-F217-4FF7-8E87-A60B1B453FF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DF65E74-0CA2-4116-B45D-3FBAD15B0DC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3058-1B99-41C3-971F-A4745882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76960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16000" y="3782520"/>
            <a:ext cx="76960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435-63ED-4151-88FF-0D46953E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160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98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448-0396-4CA9-A641-CF61C631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18080" y="141264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0160" y="141264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16000" y="378252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18080" y="378252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0160" y="378252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99E-F007-4578-AAF7-801DF998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6A73-626E-4A82-898A-53F73E79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B3A6-08B0-427B-BB8B-369792FA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B3D6-3FB2-4C73-9CBF-EE07D2EC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3277-0738-4A58-84C6-D7B3B0B3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ECDB-4977-47EC-89BD-17B72742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B983-308C-4DAA-BB9B-A39F550B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60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4511-3FA7-42A5-8741-3E93C482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F12-A3DB-499C-A736-4DAF3497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98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731E-002A-4673-B342-7E5E21F8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6000" y="3782520"/>
            <a:ext cx="76960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69A7-C2E7-43E2-B460-CABA96E4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76960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6000" y="3782520"/>
            <a:ext cx="76960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6832-9B92-4684-9809-DC4436DD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60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98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7BFA-3674-4C15-9E02-C0E4B458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8080" y="141264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0160" y="141264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6000" y="378252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8080" y="378252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0160" y="378252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6D38-C82F-476D-8E0C-4A9FC28C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57C57-A0E8-4A6A-9235-F285BBF2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0D44-47E2-4CCD-8741-B34FBD5D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F5414-F073-45F8-92D1-22E5C815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BFDE6-642F-472F-B385-FA70279F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994E3-D87C-49B9-9D42-F2EEC345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E66-2B56-4790-9793-674E48A4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CD754-1A1A-48B7-BA3C-433177A1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3BBF3-5EF1-464A-8DDE-23B378C9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598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F992B-8ABF-42B4-9760-6F5465AD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6000" y="3782520"/>
            <a:ext cx="76960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C3A70-BA56-45AA-AC49-612207DE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76960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6000" y="3782520"/>
            <a:ext cx="76960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F5995-CD58-464A-B86E-B0E1E361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60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598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8B8F-7BB7-4F42-A0A4-41498C7C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18080" y="141264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20160" y="141264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6000" y="378252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18080" y="378252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20160" y="378252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AC712-8371-45B5-88C3-C4177B33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2EE-7405-4648-B0E7-DEB322F5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A7A-2AB9-4402-802D-28673864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9157-98B9-4087-8789-D67C195B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160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F43D-2356-4796-9FA4-F04A3E61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98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1DB-4492-4669-ACAF-6DBDC74E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16000" y="3782520"/>
            <a:ext cx="76960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AD4-8D7C-4500-9521-51C6329C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1f1fb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296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70160" indent="-222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78040" indent="-228600">
              <a:spcBef>
                <a:spcPts val="700"/>
              </a:spcBef>
              <a:buClr>
                <a:srgbClr val="000066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9144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58EC-4F95-4648-831D-B795915F7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 flipV="1">
            <a:off x="609480" y="0"/>
            <a:ext cx="0" cy="68580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9"/>
          <p:cNvSpPr/>
          <p:nvPr/>
        </p:nvSpPr>
        <p:spPr>
          <a:xfrm>
            <a:off x="0" y="1143000"/>
            <a:ext cx="9144000" cy="76320"/>
          </a:xfrm>
          <a:prstGeom prst="parallelogram">
            <a:avLst>
              <a:gd name="adj" fmla="val -35259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0"/>
          <p:cNvSpPr/>
          <p:nvPr/>
        </p:nvSpPr>
        <p:spPr>
          <a:xfrm>
            <a:off x="609480" y="6515280"/>
            <a:ext cx="8534520" cy="342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ffffff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F572-0CCF-4B4D-A300-C901EF786A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1f1fb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609480" y="0"/>
            <a:ext cx="0" cy="68580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0" y="1143000"/>
            <a:ext cx="9144000" cy="76320"/>
          </a:xfrm>
          <a:prstGeom prst="parallelogram">
            <a:avLst>
              <a:gd name="adj" fmla="val -35259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609480" y="6515280"/>
            <a:ext cx="8534520" cy="342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ffffff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296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70160" indent="-222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78040" indent="-228600">
              <a:spcBef>
                <a:spcPts val="700"/>
              </a:spcBef>
              <a:buClr>
                <a:srgbClr val="000066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9144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000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DC80-CAC9-4BB4-BF11-410F0E1DC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Times New Roman"/>
              </a:rPr>
              <a:t>FULL FUNDING, EXPERIENCE RATING AND INJURY PREVENTION  </a:t>
            </a:r>
            <a:br>
              <a:rPr sz="4000"/>
            </a:br>
            <a:br>
              <a:rPr sz="4000"/>
            </a:br>
            <a:r>
              <a:rPr b="1" lang="en-NZ" sz="2400" spc="-1" strike="noStrike">
                <a:solidFill>
                  <a:srgbClr val="0d0d0d"/>
                </a:solidFill>
                <a:latin typeface="Times New Roman"/>
              </a:rPr>
              <a:t>29</a:t>
            </a:r>
            <a:r>
              <a:rPr b="1" lang="en-NZ" sz="2400" spc="-1" strike="noStrike" baseline="30000">
                <a:solidFill>
                  <a:srgbClr val="0d0d0d"/>
                </a:solidFill>
                <a:latin typeface="Times New Roman"/>
              </a:rPr>
              <a:t>TH</a:t>
            </a:r>
            <a:r>
              <a:rPr b="1" lang="en-NZ" sz="2400" spc="-1" strike="noStrike">
                <a:solidFill>
                  <a:srgbClr val="0d0d0d"/>
                </a:solidFill>
                <a:latin typeface="Times New Roman"/>
              </a:rPr>
              <a:t> OCTOBER</a:t>
            </a:r>
            <a:br>
              <a:rPr sz="2400"/>
            </a:br>
            <a:r>
              <a:rPr b="1" lang="en-NZ" sz="2400" spc="-1" strike="noStrike">
                <a:solidFill>
                  <a:srgbClr val="0d0d0d"/>
                </a:solidFill>
                <a:latin typeface="Times New Roman"/>
              </a:rPr>
              <a:t>2012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640" y="5950080"/>
            <a:ext cx="2700360" cy="40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usan St Joh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611280" y="0"/>
            <a:ext cx="853272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But what are the costs of accidents- ie the MB of accident prevention?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16000" y="1413000"/>
            <a:ext cx="7696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As per ACC’s legislative requirements, ACC </a:t>
            </a:r>
            <a:r>
              <a:rPr b="1" i="1" lang="en-NZ" sz="2800" spc="-1" strike="noStrike">
                <a:solidFill>
                  <a:srgbClr val="000066"/>
                </a:solidFill>
                <a:latin typeface="Arial"/>
              </a:rPr>
              <a:t>can only spend money on injury prevention </a:t>
            </a: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where it can be confident of delivering savings to the Scheme.”  </a:t>
            </a:r>
            <a:r>
              <a:rPr b="0" lang="en-NZ" sz="2000" spc="-1" strike="noStrike">
                <a:solidFill>
                  <a:srgbClr val="000066"/>
                </a:solidFill>
                <a:latin typeface="Arial"/>
              </a:rPr>
              <a:t>( Statement of Intent ,2011-2014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2009 ACC announced it would no longer fund the Otago Exercise Programme for preventing falls in the elderly. This was a hard decision to make as the programme was popular and had proven clinical benefit. However, the programme was not cost-effective to deliver and did not represent value-for-money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at does ACC spend now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ll it be as rigorous in assessing experience rating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9A17-444C-42AC-9946-8D5A3CF68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66"/>
                </a:solidFill>
                <a:latin typeface="Century Gothic"/>
              </a:rPr>
              <a:t>Has experience rating worked?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What has happen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What is the evaluation proces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Why no data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8645-4A77-413F-9E39-EED34DEB2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81D0-F02F-4C29-81E9-03D5DFA09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06440" y="404640"/>
            <a:ext cx="8724960" cy="56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66"/>
                </a:solidFill>
                <a:latin typeface="Century Gothic"/>
              </a:rPr>
              <a:t>Workshop 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1341360"/>
            <a:ext cx="70423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Susan St Joh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Felicity Lam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Graham Rodg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FD4C-B9C2-45DE-8350-BECA1E1BC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tent Placeholder 3"/>
          <p:cNvSpPr/>
          <p:nvPr/>
        </p:nvSpPr>
        <p:spPr>
          <a:xfrm>
            <a:off x="4788000" y="6453360"/>
            <a:ext cx="377172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Woodhouse and safety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71280" y="1267920"/>
            <a:ext cx="73292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habilita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ens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most important is obviously prevention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ffective education, adequate inspection and firm enforcement Must all be backed up by the allocation of funds”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610480" y="1752480"/>
            <a:ext cx="53352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D918-94AB-4AE8-B421-9DB3DD09B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66"/>
                </a:solidFill>
                <a:latin typeface="Century Gothic"/>
              </a:rPr>
              <a:t>Role of insurance model in ACC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4400" y="1752480"/>
            <a:ext cx="37720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Full funding required for solvenc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Clearly defined and limited  cover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True competition required for  privatisation of the work account and…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859280" y="1773360"/>
            <a:ext cx="37720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0000"/>
                </a:solidFill>
                <a:latin typeface="Arial"/>
              </a:rPr>
              <a:t>Well on way to achieving full funding goal by 2019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0000"/>
                </a:solidFill>
                <a:latin typeface="Arial"/>
              </a:rPr>
              <a:t>No immediate plans for privatisation of the work accou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744F-C26C-4DA3-8DC5-65080C270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57160" y="-677880"/>
            <a:ext cx="788832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NZ" sz="2800" spc="-1" strike="noStrike">
                <a:solidFill>
                  <a:srgbClr val="000066"/>
                </a:solidFill>
                <a:latin typeface="Century Gothic"/>
              </a:rPr>
              <a:t>	</a:t>
            </a:r>
            <a:br>
              <a:rPr sz="2800"/>
            </a:br>
            <a:r>
              <a:rPr b="1" lang="en-GB" sz="2800" spc="-1" strike="noStrike">
                <a:solidFill>
                  <a:srgbClr val="000066"/>
                </a:solidFill>
                <a:latin typeface="Century Gothic"/>
              </a:rPr>
              <a:t>	</a:t>
            </a:r>
            <a:br>
              <a:rPr sz="2800"/>
            </a:br>
            <a:r>
              <a:rPr b="1" lang="en-NZ" sz="2800" spc="-1" strike="noStrike">
                <a:solidFill>
                  <a:srgbClr val="000066"/>
                </a:solidFill>
                <a:latin typeface="Century Gothic"/>
              </a:rPr>
              <a:t>Reserves $21.7 billion  Claims $2.6 billion </a:t>
            </a: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AA69-2087-4FE7-81E1-0C982BEDD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Chart 1" descr=""/>
          <p:cNvPicPr/>
          <p:nvPr/>
        </p:nvPicPr>
        <p:blipFill>
          <a:blip r:embed="rId1"/>
          <a:stretch/>
        </p:blipFill>
        <p:spPr>
          <a:xfrm>
            <a:off x="1285920" y="1357200"/>
            <a:ext cx="6516720" cy="5143680"/>
          </a:xfrm>
          <a:prstGeom prst="rect">
            <a:avLst/>
          </a:prstGeom>
          <a:ln w="0">
            <a:noFill/>
          </a:ln>
        </p:spPr>
      </p:pic>
      <p:cxnSp>
        <p:nvCxnSpPr>
          <p:cNvPr id="156" name="Straight Arrow Connector 6"/>
          <p:cNvCxnSpPr/>
          <p:nvPr/>
        </p:nvCxnSpPr>
        <p:spPr>
          <a:xfrm flipV="1">
            <a:off x="7186320" y="1585440"/>
            <a:ext cx="626040" cy="13262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7" name="TextBox 1"/>
          <p:cNvSpPr/>
          <p:nvPr/>
        </p:nvSpPr>
        <p:spPr>
          <a:xfrm>
            <a:off x="7296840" y="1125360"/>
            <a:ext cx="1773360" cy="4597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00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A76D-5C36-40B2-A816-BBA35D800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0" y="141120"/>
            <a:ext cx="8893080" cy="580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66"/>
                </a:solidFill>
                <a:latin typeface="Century Gothic"/>
              </a:rPr>
              <a:t>Annual report 2012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Impact of low interest rat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Increase in outstanding claims lia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$3.8 bill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Higher investment income from bon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2B79-5A67-4CFB-9ABA-BB35B613F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700360" y="3436920"/>
            <a:ext cx="498168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66"/>
                </a:solidFill>
                <a:latin typeface="Century Gothic"/>
              </a:rPr>
              <a:t>ACC 2012 annual report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A88D-CC30-41EF-AF0D-1F5F1B898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065240" y="1484280"/>
            <a:ext cx="5668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organisation is now on a much better track financially, and the solvency of the Scheme has improved significantly. Positive investment returns, despite a difficult investment climate, coupled with a focus on effective rehabilitation, allowed the Government to reduce levies for the 2012–13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66"/>
                </a:solidFill>
                <a:latin typeface="Century Gothic"/>
              </a:rPr>
              <a:t>Experience rating introduced 1 April 2011. 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DDC2-CCF2-4307-8947-DFADB300D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971640" y="141300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t improves financial incentives for employers to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encourage injury prevention in the workplace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d help injured employees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return to work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s safely and quickly as possible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42920" y="3213000"/>
            <a:ext cx="756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mployers who have lower than average injury rates, with better than average rehabilitation or return-to-work rates, may receive a discount on their ACC work levy. Those with worse than average claims experience may receive a loading on their levy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xperience-rated employers contribute 75% of the total levy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5:06:43Z</dcterms:created>
  <dc:creator>St John, Susan</dc:creator>
  <dc:description/>
  <dc:language>en-US</dc:language>
  <cp:lastModifiedBy>St John, Susan</cp:lastModifiedBy>
  <cp:lastPrinted>2011-08-25T06:35:34Z</cp:lastPrinted>
  <dcterms:modified xsi:type="dcterms:W3CDTF">2012-10-28T02:35:17Z</dcterms:modified>
  <cp:revision>728</cp:revision>
  <dc:subject/>
  <dc:title>Community Trust of  Mid &amp; South Canterbury Inc.</dc:title>
</cp:coreProperties>
</file>